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gif" ContentType="image/gif"/>
  <Override PartName="/ppt/media/image3.gif" ContentType="image/gif"/>
  <Override PartName="/ppt/media/image4.png" ContentType="image/png"/>
  <Override PartName="/ppt/media/image5.jpeg" ContentType="image/jpeg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9E0D-8A5A-49BA-B934-FD2ADCEAD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53E1-D521-4A70-A705-99668447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7FFD-C510-44A5-BD17-AAD8292F1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012B-B767-4525-8C40-0D9163D21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A719-7345-42B2-B1FB-0BDA73247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AB96-5268-4A54-B887-131A9E6D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9F31-54C7-4DF3-8754-DC33EBD3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6F32-D9FA-45FC-AFBF-8A7ECA8D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0037-6C0C-486B-9E91-CC0B3F41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B761-E74D-4AC6-8CFF-E5700C01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D93C-A088-4786-B6CC-18CD73BC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BC23-3848-423C-9943-26E940BE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4688-2BB8-4AC5-8FED-FA71ABB7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8B74-4C46-4F43-AFC2-BD00EC1B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1BB2-5CC7-4987-BFEA-D7E4CC6D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D2FF-AA86-4C0A-8CCB-0B0CF3F1F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A164-13EE-4B73-9778-E047E9961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DAC7-567C-4BC5-BBE2-CD445042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36D6-DA79-4E3F-A305-C9C72A55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5B14-11D3-414D-9B09-D778C39A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53BB-1D2C-4DCE-9C45-00D4C1CB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634E-4B29-4F55-82D7-1CA17093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A298-C399-432B-8CB2-F7A2F4CB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38F7-8EF7-457A-AED6-D95B66F6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99A9-2F7B-44DF-85DB-82E45961B0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9073-023A-475F-853C-A6FFD1BE5D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3.gif"/><Relationship Id="rId22" Type="http://schemas.openxmlformats.org/officeDocument/2006/relationships/image" Target="../media/image3.gif"/><Relationship Id="rId23" Type="http://schemas.openxmlformats.org/officeDocument/2006/relationships/image" Target="../media/image3.gif"/><Relationship Id="rId24" Type="http://schemas.openxmlformats.org/officeDocument/2006/relationships/image" Target="../media/image3.gif"/><Relationship Id="rId25" Type="http://schemas.openxmlformats.org/officeDocument/2006/relationships/image" Target="../media/image3.gif"/><Relationship Id="rId26" Type="http://schemas.openxmlformats.org/officeDocument/2006/relationships/image" Target="../media/image3.gif"/><Relationship Id="rId27" Type="http://schemas.openxmlformats.org/officeDocument/2006/relationships/image" Target="../media/image3.gif"/><Relationship Id="rId28" Type="http://schemas.openxmlformats.org/officeDocument/2006/relationships/image" Target="../media/image3.gif"/><Relationship Id="rId29" Type="http://schemas.openxmlformats.org/officeDocument/2006/relationships/image" Target="../media/image3.gi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3.gif"/><Relationship Id="rId36" Type="http://schemas.openxmlformats.org/officeDocument/2006/relationships/image" Target="../media/image4.png"/><Relationship Id="rId37" Type="http://schemas.openxmlformats.org/officeDocument/2006/relationships/image" Target="../media/image4.png"/><Relationship Id="rId38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gif"/><Relationship Id="rId11" Type="http://schemas.openxmlformats.org/officeDocument/2006/relationships/image" Target="../media/image12.gif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0"/>
            <a:ext cx="9143640" cy="5638320"/>
            <a:chOff x="0" y="0"/>
            <a:chExt cx="9143640" cy="5638320"/>
          </a:xfrm>
        </p:grpSpPr>
        <p:pic>
          <p:nvPicPr>
            <p:cNvPr id="21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21600" cy="9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>
              <a:off x="0" y="4510800"/>
              <a:ext cx="921600" cy="9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3"/>
            <a:stretch/>
          </p:blipFill>
          <p:spPr>
            <a:xfrm>
              <a:off x="7926840" y="4698720"/>
              <a:ext cx="921600" cy="9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4"/>
            <a:stretch/>
          </p:blipFill>
          <p:spPr>
            <a:xfrm>
              <a:off x="7926840" y="0"/>
              <a:ext cx="921600" cy="9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5"/>
            <a:stretch/>
          </p:blipFill>
          <p:spPr>
            <a:xfrm>
              <a:off x="5530320" y="4698720"/>
              <a:ext cx="921600" cy="9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6"/>
            <a:stretch/>
          </p:blipFill>
          <p:spPr>
            <a:xfrm>
              <a:off x="5604120" y="0"/>
              <a:ext cx="921600" cy="9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7"/>
            <a:stretch/>
          </p:blipFill>
          <p:spPr>
            <a:xfrm>
              <a:off x="7926840" y="2631240"/>
              <a:ext cx="921600" cy="9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8"/>
            <a:stretch/>
          </p:blipFill>
          <p:spPr>
            <a:xfrm>
              <a:off x="0" y="2130120"/>
              <a:ext cx="921600" cy="9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9"/>
            <a:stretch/>
          </p:blipFill>
          <p:spPr>
            <a:xfrm>
              <a:off x="2728440" y="4698720"/>
              <a:ext cx="921600" cy="9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10"/>
            <a:stretch/>
          </p:blipFill>
          <p:spPr>
            <a:xfrm>
              <a:off x="2728440" y="0"/>
              <a:ext cx="921600" cy="9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11"/>
            <a:stretch/>
          </p:blipFill>
          <p:spPr>
            <a:xfrm>
              <a:off x="6489000" y="4886640"/>
              <a:ext cx="1474560" cy="62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12"/>
            <a:stretch/>
          </p:blipFill>
          <p:spPr>
            <a:xfrm>
              <a:off x="3834360" y="4949640"/>
              <a:ext cx="1474560" cy="62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13"/>
            <a:stretch/>
          </p:blipFill>
          <p:spPr>
            <a:xfrm>
              <a:off x="1105920" y="5011920"/>
              <a:ext cx="1474560" cy="62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14"/>
            <a:stretch/>
          </p:blipFill>
          <p:spPr>
            <a:xfrm>
              <a:off x="0" y="3508200"/>
              <a:ext cx="1474560" cy="62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15"/>
            <a:stretch/>
          </p:blipFill>
          <p:spPr>
            <a:xfrm>
              <a:off x="0" y="1252800"/>
              <a:ext cx="1474560" cy="62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16"/>
            <a:stretch/>
          </p:blipFill>
          <p:spPr>
            <a:xfrm>
              <a:off x="7373880" y="1503360"/>
              <a:ext cx="1474560" cy="62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17"/>
            <a:stretch/>
          </p:blipFill>
          <p:spPr>
            <a:xfrm>
              <a:off x="7668720" y="3821760"/>
              <a:ext cx="1474920" cy="62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18"/>
            <a:stretch/>
          </p:blipFill>
          <p:spPr>
            <a:xfrm>
              <a:off x="6120360" y="2693880"/>
              <a:ext cx="47916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19"/>
            <a:stretch/>
          </p:blipFill>
          <p:spPr>
            <a:xfrm>
              <a:off x="4645440" y="3821760"/>
              <a:ext cx="47916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20"/>
            <a:stretch/>
          </p:blipFill>
          <p:spPr>
            <a:xfrm>
              <a:off x="6341400" y="3884040"/>
              <a:ext cx="47916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21"/>
            <a:stretch/>
          </p:blipFill>
          <p:spPr>
            <a:xfrm>
              <a:off x="7005240" y="2819160"/>
              <a:ext cx="47916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22"/>
            <a:stretch/>
          </p:blipFill>
          <p:spPr>
            <a:xfrm>
              <a:off x="5235480" y="4134960"/>
              <a:ext cx="47916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23"/>
            <a:stretch/>
          </p:blipFill>
          <p:spPr>
            <a:xfrm>
              <a:off x="2580480" y="2067480"/>
              <a:ext cx="47916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24"/>
            <a:stretch/>
          </p:blipFill>
          <p:spPr>
            <a:xfrm>
              <a:off x="1917000" y="3070080"/>
              <a:ext cx="47916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25"/>
            <a:stretch/>
          </p:blipFill>
          <p:spPr>
            <a:xfrm>
              <a:off x="1917000" y="4385520"/>
              <a:ext cx="47916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26"/>
            <a:stretch/>
          </p:blipFill>
          <p:spPr>
            <a:xfrm>
              <a:off x="3244320" y="3571200"/>
              <a:ext cx="47916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27"/>
            <a:stretch/>
          </p:blipFill>
          <p:spPr>
            <a:xfrm>
              <a:off x="4276800" y="1440720"/>
              <a:ext cx="47916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28"/>
            <a:stretch/>
          </p:blipFill>
          <p:spPr>
            <a:xfrm>
              <a:off x="2433240" y="1315440"/>
              <a:ext cx="47916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9"/>
            <a:stretch/>
          </p:blipFill>
          <p:spPr>
            <a:xfrm>
              <a:off x="4424400" y="814320"/>
              <a:ext cx="47916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30"/>
            <a:stretch/>
          </p:blipFill>
          <p:spPr>
            <a:xfrm>
              <a:off x="6267960" y="1315440"/>
              <a:ext cx="47916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31"/>
            <a:stretch/>
          </p:blipFill>
          <p:spPr>
            <a:xfrm>
              <a:off x="5383080" y="1879560"/>
              <a:ext cx="47916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32"/>
            <a:stretch/>
          </p:blipFill>
          <p:spPr>
            <a:xfrm>
              <a:off x="7226280" y="876960"/>
              <a:ext cx="47916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33"/>
            <a:stretch/>
          </p:blipFill>
          <p:spPr>
            <a:xfrm>
              <a:off x="3834360" y="2004480"/>
              <a:ext cx="47916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34"/>
            <a:stretch/>
          </p:blipFill>
          <p:spPr>
            <a:xfrm>
              <a:off x="3760560" y="4385520"/>
              <a:ext cx="47916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35"/>
            <a:stretch/>
          </p:blipFill>
          <p:spPr>
            <a:xfrm>
              <a:off x="6857640" y="4510800"/>
              <a:ext cx="479160" cy="36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7" name=""/>
          <p:cNvSpPr/>
          <p:nvPr/>
        </p:nvSpPr>
        <p:spPr>
          <a:xfrm>
            <a:off x="0" y="385452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.VnCommercial Script"/>
              </a:rPr>
              <a:t> 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HÂN MÔN : TẬP LÀM VĂN – LỚP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191120"/>
            <a:ext cx="739152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rường Tiểu học Hướng Phù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244520" y="762120"/>
            <a:ext cx="6629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HUYÊN ĐỀ</a:t>
            </a:r>
            <a:endParaRPr b="0" lang="en-US" sz="1800" spc="1" strike="noStrike">
              <a:ln w="0">
                <a:noFill/>
              </a:ln>
              <a:blipFill rotWithShape="0">
                <a:blip r:embed="rId3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95320" y="2666880"/>
            <a:ext cx="7353360" cy="1024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Times New Roman"/>
              </a:rPr>
              <a:t>ĐỔI MỚI PHƯƠNG PHÁP DẠY HOC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19320" y="5486400"/>
            <a:ext cx="739116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ướng Phùng, ngày 24 tháng 9 năm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45" repeatCount="5000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5257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1. §äc ®o¹n v¨n d­íi ®©y vµ tr¶ lêi c©u hái :                    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495288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5335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TËp lµm v¨n :</a:t>
            </a:r>
            <a:r>
              <a:rPr b="0" lang="en-US" sz="2000" spc="-1" strike="noStrike">
                <a:solidFill>
                  <a:srgbClr val="ffff00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.VnTime"/>
              </a:rPr>
              <a:t>LuyÖn tËp t¶ c¶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171880" y="76320"/>
            <a:ext cx="51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Thø B¶y ngµy 24 th¸ng 9 n¨m 20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1371600"/>
            <a:ext cx="8763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a) BiÓn lu«n thay ®æi mµu tïy theo s¾c m©y trêi. Trêi xanh th¼m, biÓn còng th¼m xanh, nh­ d©ng cao lªn, ch¾c nÞch. Trêi r¶i m©y tr¾ng nh¹t, biÓn m¬ mµng dÞu h¬i s­¬ng. Trêi ©m u m©y m­a, biÓn x¸m xÞt, nÆng nÒ. Trêi Çm Çm d«ng giã, biÓn ®ôc ngÇu, giËn d÷… Nh­ mét con ng­êi biÕt buån vui, biÓn lóc tÎ nh¹t, l¹nh lïng, lóc s«i næi, h¶ hª, lóc ®¨m chiªu, g¾t gáng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                                                                               </a:t>
            </a:r>
            <a:r>
              <a:rPr b="0" i="1" lang="en-US" sz="2000" spc="-1" strike="noStrike">
                <a:solidFill>
                  <a:srgbClr val="ffffff"/>
                </a:solidFill>
                <a:latin typeface=".VnTime"/>
              </a:rPr>
              <a:t>Theo</a:t>
            </a: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Vò Tó Nam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" y="3581280"/>
            <a:ext cx="8305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.VnTime"/>
              </a:rPr>
              <a:t>§o¹n v¨n t¶ ®Æc ®iÓm vÒ sù thay ®æi mµu s¾c cña mÆt biÓn theo s¾c mµu cña m©y trê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4216320"/>
            <a:ext cx="754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§Ó t¶ ®Æc ®iÓm ®ã, t¸c gi¶ ®· quan s¸t nh÷ng g× vµ vµo thêi ®iÓm nµo ?</a:t>
            </a:r>
            <a:r>
              <a:rPr b="0" i="1" lang="en-US" sz="2000" spc="-1" strike="noStrike">
                <a:solidFill>
                  <a:srgbClr val="ffffff"/>
                </a:solidFill>
                <a:latin typeface=".VnTime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4838760"/>
            <a:ext cx="754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.VnTime"/>
              </a:rPr>
              <a:t>Khi trêi xanh th¼m - biÓn còng xanh th¼m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.VnTime"/>
              </a:rPr>
              <a:t>Trêi r¶I m©y tr¾ng nh¹t - biÓn m¬ mµng dÞu h¬I s­¬ng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.VnTime"/>
              </a:rPr>
              <a:t>Trêi ©m u m©y m­a - biÓn x¸m xÞt, nÆng nÒ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.VnTime"/>
              </a:rPr>
              <a:t>Trêi Çm Çm d«ng giã - biÓn ®ôc ngÇu, gi©n d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3124080"/>
            <a:ext cx="3962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§o¹n v¨n t¶ ®Æc ®iÓm g× cña biÓn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3840" y="5778360"/>
            <a:ext cx="6616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Khi quan s¸t biÓn, t¸c gi¶ ®· cã liªn t­ëng thó vÞ nh­ thÕ nµo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6248520"/>
            <a:ext cx="8763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.VnTime"/>
              </a:rPr>
              <a:t>Khi quan s¸t biÓn, t¸c gi¶ ®· cã liªn t­ëng ®Õn sù thay ®æi t©m tr¹ng cña con ng­êi : Nh­ con ng­êi, biÓn còng biÕt vui buån, giËn d÷, s«i nçi, ®¨m chiªu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843200" y="100080"/>
            <a:ext cx="64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Thø B¶y ngµy 24 th¸ng 9 n¨m 20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5335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TËp lµm v¨n :</a:t>
            </a:r>
            <a:r>
              <a:rPr b="0" lang="en-US" sz="2000" spc="-1" strike="noStrike">
                <a:solidFill>
                  <a:srgbClr val="ffff00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.VnTime"/>
              </a:rPr>
              <a:t>LuyÖn tËp t¶ c¶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990720"/>
            <a:ext cx="876312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b) Con kªnh nµy cã tªn lµ kªnh MÆt Trêi. N¬I ®©y, suèt ngµy, ¸nh n¾ng rõng rùc ®æ löa x­íng mÆt ®Êt. Bèn phÝa ch©n trêi trèng huÕch trèng ho¸c. Tõ lóc mÆt trêi mäc ®Õn lóc mÆt trêi lÆn kh«ng kiÕm ®©u ra mét bèng c©y ®Ó tr¸nh n¾mg. Buæi s¸ng, con kªng cßn ph¬n phít mµu ®µo, gi÷a tr­a bæng hãa ra mét dßng thñy ng©n cuån cuén lãa m¾t, råi dÇn dÇn biÕn thµnh mét con suèi löa lóc trêi chiÒu. Cã lÏ bëi vËy mµ nã ®­îc gäi lµ kªnh MÆt Trê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.VnTime"/>
              </a:rPr>
              <a:t>Theo 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§oµn Giá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341316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- Con kªnh ®­îc t¸c gi¶ quan s¸t vµo thêi ®iÓm nµo trong ngµy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379404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.VnTime"/>
              </a:rPr>
              <a:t>Con kªnh ®­îc t¸c gi¶ quan s¸t vµo mäi thêi ®iÓm trong ngµy : Suèt ngµy, tõ lóc mÆt trêi mäc ®Õn lóc mÆt trêi lÆn: buæi s¸ng, gi÷a tr­a, lóc trêi chiÒ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4495680"/>
            <a:ext cx="746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- T¸c gi¶ nhËn ra ®Æc ®iÓm cña con kªnh chñ yÕu b»ng gi¸c quan nµo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486108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.VnTime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.VnTime"/>
              </a:rPr>
              <a:t>T¸c gi¶ nhËn ra ®Æc ®iÓm cña con kªnh chñ yÕu b»ng thÞ gi¸c – b»ng m¾t, ®Ó thÊy n¾ng ®æ löa xuèng mÆt biÓn, thÊy mµu s¾c con kªnh biÕn ®æi trong mét ngµ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5584680"/>
            <a:ext cx="746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- Nªu t¸c dông cña nh÷ng liªn t­ëng khi quan s¸t vµ miªu t¶ Con kªn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5867280"/>
            <a:ext cx="86108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.VnTime"/>
              </a:rPr>
              <a:t>+ Gióp ng­êi ®äc h×nh dung ®­îc c¸i nãng d÷ déi ë n¬i cã con kªnh MÆt Trêi nµ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.VnTime"/>
              </a:rPr>
              <a:t>+ Lµm cho c¶nh vËt hiÖn ra còng sinh ®éng h¬n, g©y Ên t­îng h¬n víi ng­êi ®ä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457200" y="19051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43000" y="5410080"/>
            <a:ext cx="1676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" y="6156360"/>
            <a:ext cx="8915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843200" y="100080"/>
            <a:ext cx="64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Thø B¶y ngµy 24 th¸ng 9 n¨m 20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" y="5335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TËp lµm v¨n :</a:t>
            </a:r>
            <a:r>
              <a:rPr b="0" lang="en-US" sz="2000" spc="-1" strike="noStrike">
                <a:solidFill>
                  <a:srgbClr val="ffff00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.VnTime"/>
              </a:rPr>
              <a:t>LuyÖn tËp t¶ c¶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1676520" y="1219320"/>
            <a:ext cx="5943600" cy="6019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448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cc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.VnAvantH"/>
              </a:rPr>
              <a:t>Xin ch©n thµnh c¶m ¬n quý thÇy c« gi¸o</a:t>
            </a:r>
            <a:endParaRPr b="1" lang="en-US" sz="1800" spc="1" strike="noStrike">
              <a:ln w="38160">
                <a:solidFill>
                  <a:srgbClr val="ffcc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.VnAvantH"/>
              <a:ea typeface=".VnAvantH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2057400" y="4572000"/>
            <a:ext cx="5181480" cy="10368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0" y="10667880"/>
            <a:ext cx="1260360" cy="16765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7696080" y="5486400"/>
            <a:ext cx="1447920" cy="13716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5"/>
          <a:stretch/>
        </p:blipFill>
        <p:spPr>
          <a:xfrm>
            <a:off x="0" y="10667880"/>
            <a:ext cx="1260360" cy="16765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6"/>
          <a:stretch/>
        </p:blipFill>
        <p:spPr>
          <a:xfrm>
            <a:off x="7696080" y="5486400"/>
            <a:ext cx="1447920" cy="13716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7"/>
          <a:stretch/>
        </p:blipFill>
        <p:spPr>
          <a:xfrm>
            <a:off x="0" y="5486400"/>
            <a:ext cx="1447920" cy="13716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7" descr="F:\TONGHOP\anh dong\hinh trang tri\easterspring04blnk2.gif"/>
          <p:cNvPicPr/>
          <p:nvPr/>
        </p:nvPicPr>
        <p:blipFill>
          <a:blip r:embed="rId8"/>
          <a:stretch/>
        </p:blipFill>
        <p:spPr>
          <a:xfrm>
            <a:off x="0" y="0"/>
            <a:ext cx="1976400" cy="15048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" descr="F:\TONGHOP\anh dong\hinh trang tri\easterspring04blnk2.gif"/>
          <p:cNvPicPr/>
          <p:nvPr/>
        </p:nvPicPr>
        <p:blipFill>
          <a:blip r:embed="rId9"/>
          <a:stretch/>
        </p:blipFill>
        <p:spPr>
          <a:xfrm>
            <a:off x="7167600" y="-133200"/>
            <a:ext cx="1976400" cy="15048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10"/>
          <a:stretch/>
        </p:blipFill>
        <p:spPr>
          <a:xfrm>
            <a:off x="1295280" y="5715000"/>
            <a:ext cx="6400800" cy="1143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5960" y="4723920"/>
            <a:ext cx="89154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.VnTime"/>
              </a:rPr>
              <a:t>Chµo t¹m biÖt – HÑn gÆp l¹i</a:t>
            </a: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1"/>
          <a:stretch/>
        </p:blipFill>
        <p:spPr>
          <a:xfrm>
            <a:off x="2971800" y="1828800"/>
            <a:ext cx="342900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5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00:49:09Z</dcterms:created>
  <dc:creator>User</dc:creator>
  <dc:description/>
  <dc:language>en-US</dc:language>
  <cp:lastModifiedBy>Lanh_Ty</cp:lastModifiedBy>
  <dcterms:modified xsi:type="dcterms:W3CDTF">2011-09-22T13:54:59Z</dcterms:modified>
  <cp:revision>195</cp:revision>
  <dc:subject/>
  <dc:title>Bµi 137</dc:title>
</cp:coreProperties>
</file>