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A2E-2B2B-40B6-9E5D-2E16BAA9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D94-EC06-4E03-AE8E-2208784D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6B3-9A56-4E4C-9898-957DF3EE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FFD-DDBA-42CE-9C9F-96AE5A7A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DCDD-64E4-44E5-A96D-88DC43FF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85CC-73DB-48C3-B2A7-3057074E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1D5A-4E3C-426E-B2C6-BC86D5B2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FD01-C808-4CB0-B35C-BD0D74F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CF2F-15C1-48EC-8E12-9665B77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9123-6E78-4F5C-AB10-8BE4E9A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0A9E-3D17-454E-A39C-2AAB598A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F24-7230-4EF8-9459-59EE41DD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1C81-2CD0-4BB5-A458-9E63DA31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6A2C-4836-4FF8-9365-FC79D40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25F9-C0DE-4FAA-9401-8C11BB5E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4E46-0F71-4CCD-B3D3-A141B636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6EBA-E993-40E8-9260-3AFA0D41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C9F-7ACE-4640-9020-5075ABBD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EE1-D2CF-4C30-BBF8-B6643D6E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C8C-C718-4125-91FD-1F30D39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898-5F70-41A8-9875-DEB0D993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F0F-5518-44C3-A0B3-F33F3BE9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01A-A1F0-49A3-8496-A36248C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586-C608-4C0D-97C7-52ACE63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6D52-B073-47EA-8270-3051739B2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7E09-1B62-436F-8E8D-4E5E93931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3640" cy="5638320"/>
            <a:chOff x="0" y="0"/>
            <a:chExt cx="9143640" cy="56383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0" y="451080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7926840" y="469872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7926840" y="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5"/>
            <a:stretch/>
          </p:blipFill>
          <p:spPr>
            <a:xfrm>
              <a:off x="5530320" y="469872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6"/>
            <a:stretch/>
          </p:blipFill>
          <p:spPr>
            <a:xfrm>
              <a:off x="5604120" y="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926840" y="263124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8"/>
            <a:stretch/>
          </p:blipFill>
          <p:spPr>
            <a:xfrm>
              <a:off x="0" y="213012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9"/>
            <a:stretch/>
          </p:blipFill>
          <p:spPr>
            <a:xfrm>
              <a:off x="2728440" y="469872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0"/>
            <a:stretch/>
          </p:blipFill>
          <p:spPr>
            <a:xfrm>
              <a:off x="2728440" y="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1"/>
            <a:stretch/>
          </p:blipFill>
          <p:spPr>
            <a:xfrm>
              <a:off x="6489000" y="488664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3834360" y="4949640"/>
              <a:ext cx="1474560" cy="6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1105920" y="501192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4"/>
            <a:stretch/>
          </p:blipFill>
          <p:spPr>
            <a:xfrm>
              <a:off x="0" y="350820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5"/>
            <a:stretch/>
          </p:blipFill>
          <p:spPr>
            <a:xfrm>
              <a:off x="0" y="125280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6"/>
            <a:stretch/>
          </p:blipFill>
          <p:spPr>
            <a:xfrm>
              <a:off x="7373880" y="150336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7"/>
            <a:stretch/>
          </p:blipFill>
          <p:spPr>
            <a:xfrm>
              <a:off x="7668720" y="3821760"/>
              <a:ext cx="1474920" cy="6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8"/>
            <a:stretch/>
          </p:blipFill>
          <p:spPr>
            <a:xfrm>
              <a:off x="6120360" y="269388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9"/>
            <a:stretch/>
          </p:blipFill>
          <p:spPr>
            <a:xfrm>
              <a:off x="4645440" y="38217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0"/>
            <a:stretch/>
          </p:blipFill>
          <p:spPr>
            <a:xfrm>
              <a:off x="6341400" y="388404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1"/>
            <a:stretch/>
          </p:blipFill>
          <p:spPr>
            <a:xfrm>
              <a:off x="7005240" y="28191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2"/>
            <a:stretch/>
          </p:blipFill>
          <p:spPr>
            <a:xfrm>
              <a:off x="5235480" y="41349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3"/>
            <a:stretch/>
          </p:blipFill>
          <p:spPr>
            <a:xfrm>
              <a:off x="2580480" y="206748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4"/>
            <a:stretch/>
          </p:blipFill>
          <p:spPr>
            <a:xfrm>
              <a:off x="1917000" y="307008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5"/>
            <a:stretch/>
          </p:blipFill>
          <p:spPr>
            <a:xfrm>
              <a:off x="1917000" y="438552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6"/>
            <a:stretch/>
          </p:blipFill>
          <p:spPr>
            <a:xfrm>
              <a:off x="3244320" y="357120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7"/>
            <a:stretch/>
          </p:blipFill>
          <p:spPr>
            <a:xfrm>
              <a:off x="4276800" y="144072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8"/>
            <a:stretch/>
          </p:blipFill>
          <p:spPr>
            <a:xfrm>
              <a:off x="2433240" y="131544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9"/>
            <a:stretch/>
          </p:blipFill>
          <p:spPr>
            <a:xfrm>
              <a:off x="4424400" y="81432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30"/>
            <a:stretch/>
          </p:blipFill>
          <p:spPr>
            <a:xfrm>
              <a:off x="6267960" y="131544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1"/>
            <a:stretch/>
          </p:blipFill>
          <p:spPr>
            <a:xfrm>
              <a:off x="5383080" y="18795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2"/>
            <a:stretch/>
          </p:blipFill>
          <p:spPr>
            <a:xfrm>
              <a:off x="7226280" y="8769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3"/>
            <a:stretch/>
          </p:blipFill>
          <p:spPr>
            <a:xfrm>
              <a:off x="3834360" y="200448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4"/>
            <a:stretch/>
          </p:blipFill>
          <p:spPr>
            <a:xfrm>
              <a:off x="3760560" y="438552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5"/>
            <a:stretch/>
          </p:blipFill>
          <p:spPr>
            <a:xfrm>
              <a:off x="6857640" y="4510800"/>
              <a:ext cx="479160" cy="36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"/>
          <p:cNvSpPr/>
          <p:nvPr/>
        </p:nvSpPr>
        <p:spPr>
          <a:xfrm>
            <a:off x="0" y="3854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.VnCommercial Script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HÂN MÔN : TẬP LÀM VĂN – LỚP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191120"/>
            <a:ext cx="73915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rường Tiểu học Hướng Phù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44520" y="762120"/>
            <a:ext cx="6629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UYÊN ĐỀ</a:t>
            </a:r>
            <a:endParaRPr b="0" lang="en-US" sz="1800" spc="1" strike="noStrike">
              <a:ln w="0">
                <a:noFill/>
              </a:ln>
              <a:blipFill rotWithShape="0">
                <a:blip r:embed="rId3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95320" y="2666880"/>
            <a:ext cx="7353360" cy="1024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ĐỔI MỚI PHƯƠNG PHÁP DẠY HOC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486400"/>
            <a:ext cx="73911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ướng Phùng, ngày 24 tháng 9 năm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45" repeatCount="50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1. §äc ®o¹n v¨n d­íi ®©y vµ tr¶ lêi c©u hái :                   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9528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TËp lµm v¨n :</a:t>
            </a:r>
            <a:r>
              <a:rPr b="0" lang="en-US" sz="2000" spc="-1" strike="noStrike">
                <a:solidFill>
                  <a:srgbClr val="ffff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.VnTime"/>
              </a:rPr>
              <a:t>LuyÖn tËp t¶ c¶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71880" y="7632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ø B¶y ngµy 24 th¸ng 9 n¨m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3716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a) BiÓn lu«n thay ®æi mµu tïy theo s¾c m©y trêi. Trêi xanh th¼m, biÓn còng th¼m xanh, nh­ d©ng cao lªn, ch¾c nÞch. Trêi r¶i m©y tr¾ng nh¹t, biÓn m¬ mµng dÞu h¬i s­¬ng. Trêi ©m u m©y m­a, biÓn x¸m xÞt, nÆng nÒ. Trêi Çm Çm d«ng giã, biÓn ®ôc ngÇu, giËn d÷… Nh­ mét con ng­êi biÕt buån vui, biÓn lóc tÎ nh¹t, l¹nh lïng, lóc s«i næi, h¶ hª, lóc ®¨m chiªu, g¾t gáng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            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heo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Vò Tó Nam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3581280"/>
            <a:ext cx="830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§o¹n v¨n t¶ ®Æc ®iÓm vÒ sù thay ®æi mµu s¾c cña mÆt biÓn theo s¾c mµu cña m©y trê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421632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§Ó t¶ ®Æc ®iÓm ®ã, t¸c gi¶ ®· quan s¸t nh÷ng g× vµ vµo thêi ®iÓm nµo ?</a:t>
            </a: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83876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Khi trêi xanh th¼m - biÓn còng xanh th¼m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rêi r¶I m©y tr¾ng nh¹t - biÓn m¬ mµng dÞu h¬I s­¬ng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rêi ©m u m©y m­a - biÓn x¸m xÞt, nÆng nÒ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rêi Çm Çm d«ng giã - biÓn ®ôc ngÇu, gi©n d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124080"/>
            <a:ext cx="396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§o¹n v¨n t¶ ®Æc ®iÓm g× cña biÓ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3840" y="5778360"/>
            <a:ext cx="661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Khi quan s¸t biÓn, t¸c gi¶ ®· cã liªn t­ëng thó vÞ nh­ thÕ nµo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6248520"/>
            <a:ext cx="8763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Khi quan s¸t biÓn, t¸c gi¶ ®· cã liªn t­ëng ®Õn sù thay ®æi t©m tr¹ng cña con ng­êi : Nh­ con ng­êi, biÓn còng biÕt vui buån, giËn d÷, s«i nçi, ®¨m chiªu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43200" y="10008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ø B¶y ngµy 24 th¸ng 9 n¨m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TËp lµm v¨n :</a:t>
            </a:r>
            <a:r>
              <a:rPr b="0" lang="en-US" sz="2000" spc="-1" strike="noStrike">
                <a:solidFill>
                  <a:srgbClr val="ffff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.VnTime"/>
              </a:rPr>
              <a:t>LuyÖn tËp t¶ c¶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990720"/>
            <a:ext cx="87631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b) Con kªnh nµy cã tªn lµ kªnh MÆt Trêi. N¬I ®©y, suèt ngµy, ¸nh n¾ng rõng rùc ®æ löa x­íng mÆt ®Êt. Bèn phÝa ch©n trêi trèng huÕch trèng ho¸c. Tõ lóc mÆt trêi mäc ®Õn lóc mÆt trêi lÆn kh«ng kiÕm ®©u ra mét bèng c©y ®Ó tr¸nh n¾mg. Buæi s¸ng, con kªng cßn ph¬n phít mµu ®µo, gi÷a tr­a bæng hãa ra mét dßng thñy ng©n cuån cuén lãa m¾t, råi dÇn dÇn biÕn thµnh mét con suèi löa lóc trêi chiÒu. Cã lÏ bëi vËy mµ nã ®­îc gäi lµ kªnh MÆt Trê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heo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§oµn Giá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4131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- Con kªnh ®­îc t¸c gi¶ quan s¸t vµo thêi ®iÓm nµo trong ngµy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37940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Con kªnh ®­îc t¸c gi¶ quan s¸t vµo mäi thêi ®iÓm trong ngµy : Suèt ngµy, tõ lóc mÆt trêi mäc ®Õn lóc mÆt trêi lÆn: buæi s¸ng, gi÷a tr­a, lóc trêi chiÒ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4956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- T¸c gi¶ nhËn ra ®Æc ®iÓm cña con kªnh chñ yÕu b»ng gi¸c quan nµo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8610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¸c gi¶ nhËn ra ®Æc ®iÓm cña con kªnh chñ yÕu b»ng thÞ gi¸c – b»ng m¾t, ®Ó thÊy n¾ng ®æ löa xuèng mÆt biÓn, thÊy mµu s¾c con kªnh biÕn ®æi trong mét ngµ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5846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- Nªu t¸c dông cña nh÷ng liªn t­ëng khi quan s¸t vµ miªu t¶ Con kªn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867280"/>
            <a:ext cx="86108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+ Gióp ng­êi ®äc h×nh dung ®­îc c¸i nãng d÷ déi ë n¬i cã con kªnh MÆt Trêi nµ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+ Lµm cho c¶nh vËt hiÖn ra còng sinh ®éng h¬n, g©y Ên t­îng h¬n víi ng­êi ®ä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7200" y="19051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5410080"/>
            <a:ext cx="1676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6156360"/>
            <a:ext cx="8915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43200" y="10008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ø B¶y ngµy 24 th¸ng 9 n¨m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TËp lµm v¨n :</a:t>
            </a:r>
            <a:r>
              <a:rPr b="0" lang="en-US" sz="2000" spc="-1" strike="noStrike">
                <a:solidFill>
                  <a:srgbClr val="ffff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.VnTime"/>
              </a:rPr>
              <a:t>LuyÖn tËp t¶ c¶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676520" y="1219320"/>
            <a:ext cx="5943600" cy="6019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48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AvantH"/>
              </a:rPr>
              <a:t>Xin ch©n thµnh c¶m ¬n quý thÇy c« gi¸o</a:t>
            </a:r>
            <a:endParaRPr b="1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AvantH"/>
              <a:ea typeface=".VnAvantH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057400" y="4572000"/>
            <a:ext cx="5181480" cy="1036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0" y="10667880"/>
            <a:ext cx="126036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69608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0" y="10667880"/>
            <a:ext cx="1260360" cy="1676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769608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F:\TONGHOP\anh dong\hinh trang tri\easterspring04blnk2.gif"/>
          <p:cNvPicPr/>
          <p:nvPr/>
        </p:nvPicPr>
        <p:blipFill>
          <a:blip r:embed="rId8"/>
          <a:stretch/>
        </p:blipFill>
        <p:spPr>
          <a:xfrm>
            <a:off x="0" y="0"/>
            <a:ext cx="1976400" cy="1504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F:\TONGHOP\anh dong\hinh trang tri\easterspring04blnk2.gif"/>
          <p:cNvPicPr/>
          <p:nvPr/>
        </p:nvPicPr>
        <p:blipFill>
          <a:blip r:embed="rId9"/>
          <a:stretch/>
        </p:blipFill>
        <p:spPr>
          <a:xfrm>
            <a:off x="7167600" y="-133200"/>
            <a:ext cx="1976400" cy="1504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1295280" y="5715000"/>
            <a:ext cx="6400800" cy="114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960" y="4723920"/>
            <a:ext cx="89154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.VnTime"/>
              </a:rPr>
              <a:t>Chµo t¹m biÖt – HÑn gÆp l¹i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2971800" y="1828800"/>
            <a:ext cx="3429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0:49:09Z</dcterms:created>
  <dc:creator>User</dc:creator>
  <dc:description/>
  <dc:language>en-US</dc:language>
  <cp:lastModifiedBy>Lanh_Ty</cp:lastModifiedBy>
  <dcterms:modified xsi:type="dcterms:W3CDTF">2011-09-22T13:54:59Z</dcterms:modified>
  <cp:revision>195</cp:revision>
  <dc:subject/>
  <dc:title>Bµi 137</dc:title>
</cp:coreProperties>
</file>