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755-179C-4EFE-9F3C-DD9562E6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F29-5962-44D3-A90F-440EB2D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99A-F14A-4838-AD1B-282386D5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DEF-4090-4C6A-A778-5ECC5710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1DE-ED58-4974-BD38-BC8175E5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65D-6CD5-4ABC-A7DE-C14658E7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67A-0862-4192-B11C-D28D5495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C45-8392-42B9-AD08-4F7F8218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807-30CF-49E8-8619-B2E0BC54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271-E4B2-462C-9D51-DFC1D27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938-212E-4C2D-9365-BFD72D53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3ED-B283-4BC2-95D3-DBA6F220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183A-0640-4D9D-A55B-8004039AF8E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337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avion est un moyen de transport très sû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accor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condition de fermer les yeux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ra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ques ex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un_pic1742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un_pic18716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un_pic19718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n_pic19895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un_pic23281" descr=""/>
          <p:cNvPicPr/>
          <p:nvPr/>
        </p:nvPicPr>
        <p:blipFill>
          <a:blip r:embed="rId1"/>
          <a:stretch/>
        </p:blipFill>
        <p:spPr>
          <a:xfrm>
            <a:off x="274680" y="627120"/>
            <a:ext cx="8593200" cy="56023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e_plein_svp" descr=""/>
          <p:cNvPicPr/>
          <p:nvPr/>
        </p:nvPicPr>
        <p:blipFill>
          <a:blip r:embed="rId1"/>
          <a:stretch/>
        </p:blipFill>
        <p:spPr>
          <a:xfrm>
            <a:off x="1143000" y="1122480"/>
            <a:ext cx="6858000" cy="46116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ccident" descr=""/>
          <p:cNvPicPr/>
          <p:nvPr/>
        </p:nvPicPr>
        <p:blipFill>
          <a:blip r:embed="rId1"/>
          <a:stretch/>
        </p:blipFill>
        <p:spPr>
          <a:xfrm>
            <a:off x="1165320" y="1000080"/>
            <a:ext cx="6811920" cy="48578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leine_mer" descr=""/>
          <p:cNvPicPr/>
          <p:nvPr/>
        </p:nvPicPr>
        <p:blipFill>
          <a:blip r:embed="rId1"/>
          <a:stretch/>
        </p:blipFill>
        <p:spPr>
          <a:xfrm>
            <a:off x="1533600" y="1300320"/>
            <a:ext cx="6076800" cy="42573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vion_cables" descr=""/>
          <p:cNvPicPr/>
          <p:nvPr/>
        </p:nvPicPr>
        <p:blipFill>
          <a:blip r:embed="rId1"/>
          <a:stretch/>
        </p:blipFill>
        <p:spPr>
          <a:xfrm>
            <a:off x="1066680" y="988920"/>
            <a:ext cx="7010640" cy="48783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rci_choisi_compagnie" descr=""/>
          <p:cNvPicPr/>
          <p:nvPr/>
        </p:nvPicPr>
        <p:blipFill>
          <a:blip r:embed="rId1"/>
          <a:stretch/>
        </p:blipFill>
        <p:spPr>
          <a:xfrm>
            <a:off x="762120" y="1106640"/>
            <a:ext cx="7696080" cy="4599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ra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nfin_rentre" descr=""/>
          <p:cNvPicPr/>
          <p:nvPr/>
        </p:nvPicPr>
        <p:blipFill>
          <a:blip r:embed="rId1"/>
          <a:stretch/>
        </p:blipFill>
        <p:spPr>
          <a:xfrm>
            <a:off x="1066680" y="1073160"/>
            <a:ext cx="7010640" cy="47116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ques ex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gpytair" descr=""/>
          <p:cNvPicPr/>
          <p:nvPr/>
        </p:nvPicPr>
        <p:blipFill>
          <a:blip r:embed="rId1"/>
          <a:stretch/>
        </p:blipFill>
        <p:spPr>
          <a:xfrm>
            <a:off x="762120" y="281160"/>
            <a:ext cx="7619760" cy="62956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rash_avion" descr=""/>
          <p:cNvPicPr/>
          <p:nvPr/>
        </p:nvPicPr>
        <p:blipFill>
          <a:blip r:embed="rId1"/>
          <a:stretch/>
        </p:blipFill>
        <p:spPr>
          <a:xfrm>
            <a:off x="990720" y="890640"/>
            <a:ext cx="7238880" cy="50212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mulateur_vol" descr=""/>
          <p:cNvPicPr/>
          <p:nvPr/>
        </p:nvPicPr>
        <p:blipFill>
          <a:blip r:embed="rId1"/>
          <a:stretch/>
        </p:blipFill>
        <p:spPr>
          <a:xfrm>
            <a:off x="1828800" y="1393920"/>
            <a:ext cx="5562720" cy="40147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98800" y="228600"/>
            <a:ext cx="4943520" cy="640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835280" y="6237360"/>
            <a:ext cx="538776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ubblebath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-16TRUCK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C135-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n_pic0049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172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un_pic02995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n_pic1194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un_pic16827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21:33:52Z</dcterms:created>
  <dc:creator>cwcrozier</dc:creator>
  <dc:description/>
  <dc:language>en-US</dc:language>
  <cp:lastModifiedBy>Smets</cp:lastModifiedBy>
  <dcterms:modified xsi:type="dcterms:W3CDTF">2008-11-03T18:13:22Z</dcterms:modified>
  <cp:revision>5</cp:revision>
  <dc:subject/>
  <dc:title>No Slide Title</dc:title>
</cp:coreProperties>
</file>