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0B7-0038-44B7-878F-822BEFDD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DDE-3068-43FD-A914-DD3962E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AC4-F1D9-4424-9A7E-34E79CAE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F20-F246-4EA2-A798-5C37BDCB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9BD-12C6-4FE4-8402-162C88E8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91E-8931-40B5-A8FA-04B30FE5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AD3-7C36-42CF-B2EB-41F6648C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D74-442C-4877-9C19-E800E2B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783-3CEC-48C6-BC4F-F8BFF0A6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025-C9C4-46A2-976E-18A6EBC1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ED9-4E28-4586-860C-222EEB0E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326-7282-4344-88CE-A67A471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E673-B4E8-4040-89E2-5DCE9D69B83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337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avion est un moyen de transport très sû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accor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à condition de fermer les yeux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ra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ques ex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un_pic1742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un_pic18716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un_pic19718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n_pic19895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un_pic23281" descr=""/>
          <p:cNvPicPr/>
          <p:nvPr/>
        </p:nvPicPr>
        <p:blipFill>
          <a:blip r:embed="rId1"/>
          <a:stretch/>
        </p:blipFill>
        <p:spPr>
          <a:xfrm>
            <a:off x="274680" y="627120"/>
            <a:ext cx="8593200" cy="56023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e_plein_svp" descr=""/>
          <p:cNvPicPr/>
          <p:nvPr/>
        </p:nvPicPr>
        <p:blipFill>
          <a:blip r:embed="rId1"/>
          <a:stretch/>
        </p:blipFill>
        <p:spPr>
          <a:xfrm>
            <a:off x="1143000" y="1122480"/>
            <a:ext cx="6858000" cy="46116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ccident" descr=""/>
          <p:cNvPicPr/>
          <p:nvPr/>
        </p:nvPicPr>
        <p:blipFill>
          <a:blip r:embed="rId1"/>
          <a:stretch/>
        </p:blipFill>
        <p:spPr>
          <a:xfrm>
            <a:off x="1165320" y="1000080"/>
            <a:ext cx="6811920" cy="48578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leine_mer" descr=""/>
          <p:cNvPicPr/>
          <p:nvPr/>
        </p:nvPicPr>
        <p:blipFill>
          <a:blip r:embed="rId1"/>
          <a:stretch/>
        </p:blipFill>
        <p:spPr>
          <a:xfrm>
            <a:off x="1533600" y="1300320"/>
            <a:ext cx="6076800" cy="42573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vion_cables" descr=""/>
          <p:cNvPicPr/>
          <p:nvPr/>
        </p:nvPicPr>
        <p:blipFill>
          <a:blip r:embed="rId1"/>
          <a:stretch/>
        </p:blipFill>
        <p:spPr>
          <a:xfrm>
            <a:off x="1066680" y="988920"/>
            <a:ext cx="7010640" cy="48783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rci_choisi_compagnie" descr=""/>
          <p:cNvPicPr/>
          <p:nvPr/>
        </p:nvPicPr>
        <p:blipFill>
          <a:blip r:embed="rId1"/>
          <a:stretch/>
        </p:blipFill>
        <p:spPr>
          <a:xfrm>
            <a:off x="762120" y="1106640"/>
            <a:ext cx="7696080" cy="4599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ra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nfin_rentre" descr=""/>
          <p:cNvPicPr/>
          <p:nvPr/>
        </p:nvPicPr>
        <p:blipFill>
          <a:blip r:embed="rId1"/>
          <a:stretch/>
        </p:blipFill>
        <p:spPr>
          <a:xfrm>
            <a:off x="1066680" y="1073160"/>
            <a:ext cx="7010640" cy="47116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ques ex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gpytair" descr=""/>
          <p:cNvPicPr/>
          <p:nvPr/>
        </p:nvPicPr>
        <p:blipFill>
          <a:blip r:embed="rId1"/>
          <a:stretch/>
        </p:blipFill>
        <p:spPr>
          <a:xfrm>
            <a:off x="762120" y="281160"/>
            <a:ext cx="7619760" cy="62956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rash_avion" descr=""/>
          <p:cNvPicPr/>
          <p:nvPr/>
        </p:nvPicPr>
        <p:blipFill>
          <a:blip r:embed="rId1"/>
          <a:stretch/>
        </p:blipFill>
        <p:spPr>
          <a:xfrm>
            <a:off x="990720" y="890640"/>
            <a:ext cx="7238880" cy="50212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mulateur_vol" descr=""/>
          <p:cNvPicPr/>
          <p:nvPr/>
        </p:nvPicPr>
        <p:blipFill>
          <a:blip r:embed="rId1"/>
          <a:stretch/>
        </p:blipFill>
        <p:spPr>
          <a:xfrm>
            <a:off x="1828800" y="1393920"/>
            <a:ext cx="5562720" cy="40147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98800" y="228600"/>
            <a:ext cx="4943520" cy="6400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835280" y="6237360"/>
            <a:ext cx="538776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ubblebath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-16TRUCK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C135-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n_pic0049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172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un_pic02995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n_pic1194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un_pic16827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21:33:52Z</dcterms:created>
  <dc:creator>cwcrozier</dc:creator>
  <dc:description/>
  <dc:language>en-US</dc:language>
  <cp:lastModifiedBy>Smets</cp:lastModifiedBy>
  <dcterms:modified xsi:type="dcterms:W3CDTF">2008-11-03T18:13:22Z</dcterms:modified>
  <cp:revision>5</cp:revision>
  <dc:subject/>
  <dc:title>No Slide Title</dc:title>
</cp:coreProperties>
</file>