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B03C-89B2-431D-B8F4-86BCC82E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2152-2FA5-492D-8AA8-BF1A854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4BE3-98C9-4881-9291-8A82697B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1E2B-94EB-48EF-8CDC-C74BF0CC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532D-C98C-456F-97EC-5C33A2A6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1BC7-F79F-492F-A029-79E072B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463F-A198-4FD8-BCDB-3D0F2D99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A2CE-172E-4015-8086-AA18AF06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5359-077E-460E-8D81-A99D88D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D8EE-10EE-4E7E-B653-FF76550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618C-2C0B-4910-B8A6-E6EFFB06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DDF6-1CAA-4AE0-96CC-992ADC4D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2547-EFEA-4286-99FE-2C178B1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677C-894D-463D-83DE-3854F5EF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DA3-23EF-472C-B8E4-9776FEE8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662E-329F-415D-B3AD-64CE3225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1BC-5A22-4609-B745-D2C680A1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85E9-06BD-4D99-A035-BB252C8E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9BD2-3407-4A90-8C1C-434B18F4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0004-C61C-4D22-8CE6-D6F2488E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D902-4B09-4C7C-A41B-61C1042C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8E5C-C290-4C64-8C22-0D3C126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0AEC-6FE0-4EC5-A4A3-B5EA0E7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3346-DAC7-4802-B82B-F1EFAC8E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A076-115E-4124-9BD6-B3A3C844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152-8C6D-4E21-B33D-6938A8FE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27.Ranga Reddy Parthi Yatra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ion and Musical Offer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th Ju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600" y="1752480"/>
            <a:ext cx="6248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Jai Sai Ram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 rot="21178200">
            <a:off x="1143000" y="3657600"/>
            <a:ext cx="7086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My Humb le Pranams at the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Divine Lotus Feet of Swami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May Baba Bless Us In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a479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Our Daily walk With Him</a:t>
            </a:r>
            <a:endParaRPr b="1" lang="en-US" sz="3200" spc="1" strike="noStrike">
              <a:ln w="12600">
                <a:solidFill>
                  <a:srgbClr val="a479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00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get a place in someone's address boo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icult to get a place in someone's heart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asy to judge the mistakes of oth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fficult to recognize our own mistak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066680" y="1447920"/>
            <a:ext cx="6858000" cy="3581280"/>
          </a:xfrm>
          <a:prstGeom prst="rect">
            <a:avLst/>
          </a:prstGeom>
          <a:solidFill>
            <a:srgbClr val="e0ce8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ed Sai Americ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ce Drama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 4 &amp; 7 of the U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th Jul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1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5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5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jananam Bhoota Ganadhi Sevit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Kapitha Jambu Palasaara Bhakshit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Umasutam Shokha Vinasa Karana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Namami Vighneshwara Paada Pankaj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 Sayeesvaraya Vidmah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Sathya Devaaya Dheemahi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  Thannah Sarva Prachodaya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      Om Shanthi Shanthi Shanthi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dream every nigh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Difficult to fight for a dream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Easy to show victor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Difficult to assume defeat with dignity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y to talk without think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Difficult to refrain the tongu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Easy to hurt someone who loves u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Difficult to heal the wound...</a:t>
            </a:r>
            <a:br>
              <a:rPr sz="24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gions are different, path is the sam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thes are different, cotton is one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ings are different, Atma is one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ity and lifestyle are different, human birth is the sa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ve All Serve All. Help Ever Hurt N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TY IS GOD – WORK IS W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um Jai Sai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4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2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y to forgive oth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ifficult to ask for forgivene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Easy to set rule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Difficult to follow them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8:43Z</dcterms:created>
  <dc:creator>user</dc:creator>
  <dc:description/>
  <dc:language>en-US</dc:language>
  <cp:lastModifiedBy>user</cp:lastModifiedBy>
  <dcterms:modified xsi:type="dcterms:W3CDTF">2009-08-22T09:53:45Z</dcterms:modified>
  <cp:revision>5</cp:revision>
  <dc:subject/>
  <dc:title>027.Ranga Reddy Parthi Yatra   Distribution and Musical Offering   27th July 2009</dc:title>
</cp:coreProperties>
</file>