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28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7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2.png" ContentType="image/png"/>
  <Override PartName="/ppt/media/image2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30AF3B-AE8B-4A83-8398-615AC0847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4A5A65-B0FE-437F-808A-7CD49C335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215644-49B8-4359-9376-3B0926776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057C95-08CF-4EE9-9C65-2FE84A1BA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62098-4E95-483F-AB56-F0CA9DC03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143F3-1FB0-49B0-9089-2A3D3EC1A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7C340-8D30-4F35-B91C-5F1DDBA57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43071-B8BC-49A3-9522-25B440154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46EFB-4939-41E3-B548-AA5014394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027C3-0734-41CB-A22D-C9A074661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E9C28-88B5-4DEF-B93B-415EB73DA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4C3591-5877-4214-91F5-137327B28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37DAB-D724-41FF-9AFD-60634D045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D583C-7E76-415D-B010-4665D6EB0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56C42-32E9-4885-AEFC-4ACD1D24F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B86C0-D10E-470A-A0FF-1F7F494B9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85696-B4D0-4A27-B3BE-D8051F0BE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5C5698-5013-4E22-B4C5-508579274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F698A4-5EB3-4A73-8F34-8F7B6FE45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24708F-3637-4AF1-BD64-2ECAC61D6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88D6F7-42C8-48B2-90BC-107B5F812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D10D71-E4A0-42F1-8BF6-FC5A3F6A6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873417-AFF8-4CA2-AB91-1745E43AE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F7F667-1A8E-4B6A-B1DC-B31B2530A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46c48"/>
            </a:gs>
            <a:gs pos="100000">
              <a:srgbClr val="fdeb9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5d48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5d48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5d48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5d48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5d48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5d48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5d48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998e5f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746c4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4c462f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7070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897f55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a09463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a09463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7a714c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91865a"/>
                </a:gs>
                <a:gs pos="100000">
                  <a:srgbClr val="fdeb9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998e5f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998e5f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998e5f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998e5f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998e5f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897f55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81785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998e5f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998e5f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ddcd89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ddcd89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ddcd89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b6a86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b6a86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ddcd89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ddcd89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ddcd89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ddcd89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ddcd89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ddcd89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ddcd89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796f46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b6a86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b6a86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b6a86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696140"/>
                </a:gs>
                <a:gs pos="100000">
                  <a:srgbClr val="c2b47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696140"/>
                </a:gs>
                <a:gs pos="100000">
                  <a:srgbClr val="c2b47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4b462e"/>
                </a:gs>
                <a:gs pos="100000">
                  <a:srgbClr val="c2b47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4b462e"/>
                </a:gs>
                <a:gs pos="100000">
                  <a:srgbClr val="c2b47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96140"/>
                </a:gs>
                <a:gs pos="100000">
                  <a:srgbClr val="c2b47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96140"/>
                </a:gs>
                <a:gs pos="100000">
                  <a:srgbClr val="c2b47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4b462e"/>
                </a:gs>
                <a:gs pos="100000">
                  <a:srgbClr val="c2b47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96140"/>
                </a:gs>
                <a:gs pos="100000">
                  <a:srgbClr val="c2b47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696140"/>
                </a:gs>
                <a:gs pos="100000">
                  <a:srgbClr val="c2b47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b462e"/>
                </a:gs>
                <a:gs pos="100000">
                  <a:srgbClr val="c2b47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96140"/>
                </a:gs>
                <a:gs pos="100000">
                  <a:srgbClr val="c2b47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96140"/>
                </a:gs>
                <a:gs pos="100000">
                  <a:srgbClr val="c2b47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96140"/>
                </a:gs>
                <a:gs pos="100000">
                  <a:srgbClr val="c2b47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696140"/>
                </a:gs>
                <a:gs pos="100000">
                  <a:srgbClr val="c2b47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96140"/>
                </a:gs>
                <a:gs pos="100000">
                  <a:srgbClr val="c2b47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f6743"/>
                </a:gs>
                <a:gs pos="100000">
                  <a:srgbClr val="c2b47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f6743"/>
                </a:gs>
                <a:gs pos="100000">
                  <a:srgbClr val="c2b47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96140"/>
                </a:gs>
                <a:gs pos="100000">
                  <a:srgbClr val="c2b47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4b462e"/>
                </a:gs>
                <a:gs pos="100000">
                  <a:srgbClr val="c2b47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4E5A5-F983-4BDE-8166-44E227D963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c89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c89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a714c"/>
            </a:gs>
            <a:gs pos="100000">
              <a:srgbClr val="fdeb9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5d48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5d48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5d48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5d48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5d48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5d48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5d48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998e5f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746c4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4c462f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7070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897f55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a09463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a09463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7a714c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91865a"/>
                </a:gs>
                <a:gs pos="100000">
                  <a:srgbClr val="fdeb9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998e5f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998e5f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998e5f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998e5f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998e5f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897f55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81785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998e5f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998e5f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ddcd89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ddcd89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ddcd89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b6a86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b6a86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ddcd89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ddcd89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ddcd89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ddcd89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ddcd89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ddcd89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ddcd89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796f46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b6a86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b6a86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b6a86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897f55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897f55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625b3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625b3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897f55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897f55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25b3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897f55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897f55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25b3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897f55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897f55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897f55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897f55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897f55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91865a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91865a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897f55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625b3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FE1EF-DE26-4ABF-9561-BCF0A2CE03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a47900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8c8900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a47900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a714c"/>
            </a:gs>
            <a:gs pos="100000">
              <a:srgbClr val="fdeb9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027.Ranga Reddy Parthi Yatra 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istribution and Musical Offering 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7th July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 txBox="1"/>
          <p:nvPr/>
        </p:nvSpPr>
        <p:spPr>
          <a:xfrm>
            <a:off x="1371600" y="1752480"/>
            <a:ext cx="62485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Aum Jai Sai Ram</a:t>
            </a:r>
            <a:endParaRPr b="1" lang="en-US" sz="3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16" name=""/>
          <p:cNvSpPr txBox="1"/>
          <p:nvPr/>
        </p:nvSpPr>
        <p:spPr>
          <a:xfrm rot="21178200">
            <a:off x="1143000" y="3657600"/>
            <a:ext cx="708660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2600">
                  <a:solidFill>
                    <a:srgbClr val="a47900"/>
                  </a:solidFill>
                  <a:miter/>
                </a:ln>
                <a:solidFill>
                  <a:srgbClr val="ffff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Times New Roman"/>
              </a:rPr>
              <a:t>My Humb le Pranams at the</a:t>
            </a:r>
            <a:endParaRPr b="1" lang="en-US" sz="3200" spc="1" strike="noStrike">
              <a:ln w="12600">
                <a:solidFill>
                  <a:srgbClr val="a47900"/>
                </a:solidFill>
                <a:miter/>
              </a:ln>
              <a:solidFill>
                <a:srgbClr val="ffff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2600">
                  <a:solidFill>
                    <a:srgbClr val="a47900"/>
                  </a:solidFill>
                  <a:miter/>
                </a:ln>
                <a:solidFill>
                  <a:srgbClr val="ffff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Times New Roman"/>
              </a:rPr>
              <a:t>Divine Lotus Feet of Swami</a:t>
            </a:r>
            <a:endParaRPr b="1" lang="en-US" sz="3200" spc="1" strike="noStrike">
              <a:ln w="12600">
                <a:solidFill>
                  <a:srgbClr val="a47900"/>
                </a:solidFill>
                <a:miter/>
              </a:ln>
              <a:solidFill>
                <a:srgbClr val="ffff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1" strike="noStrike">
              <a:ln w="12600">
                <a:solidFill>
                  <a:srgbClr val="a47900"/>
                </a:solidFill>
                <a:miter/>
              </a:ln>
              <a:solidFill>
                <a:srgbClr val="ffff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2600">
                  <a:solidFill>
                    <a:srgbClr val="a47900"/>
                  </a:solidFill>
                  <a:miter/>
                </a:ln>
                <a:solidFill>
                  <a:srgbClr val="ffff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Times New Roman"/>
              </a:rPr>
              <a:t>May Baba Bless Us In</a:t>
            </a:r>
            <a:endParaRPr b="1" lang="en-US" sz="3200" spc="1" strike="noStrike">
              <a:ln w="12600">
                <a:solidFill>
                  <a:srgbClr val="a47900"/>
                </a:solidFill>
                <a:miter/>
              </a:ln>
              <a:solidFill>
                <a:srgbClr val="ffff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2600">
                  <a:solidFill>
                    <a:srgbClr val="a47900"/>
                  </a:solidFill>
                  <a:miter/>
                </a:ln>
                <a:solidFill>
                  <a:srgbClr val="ffff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Times New Roman"/>
              </a:rPr>
              <a:t>Our Daily walk With Him</a:t>
            </a:r>
            <a:endParaRPr b="1" lang="en-US" sz="3200" spc="1" strike="noStrike">
              <a:ln w="12600">
                <a:solidFill>
                  <a:srgbClr val="a47900"/>
                </a:solidFill>
                <a:miter/>
              </a:ln>
              <a:solidFill>
                <a:srgbClr val="ffff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517" name="" descr=""/>
          <p:cNvPicPr/>
          <p:nvPr/>
        </p:nvPicPr>
        <p:blipFill>
          <a:blip r:embed="rId1"/>
          <a:stretch/>
        </p:blipFill>
        <p:spPr>
          <a:xfrm>
            <a:off x="533520" y="3049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2000"/>
                            </p:stCondLst>
                            <p:childTnLst>
                              <p:par>
                                <p:cTn id="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3000"/>
                            </p:stCondLst>
                            <p:childTnLst>
                              <p:par>
                                <p:cTn id="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" dur="1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500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5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46c48"/>
            </a:gs>
            <a:gs pos="100000">
              <a:srgbClr val="fdeb9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" descr=""/>
          <p:cNvPicPr/>
          <p:nvPr/>
        </p:nvPicPr>
        <p:blipFill>
          <a:blip r:embed="rId1"/>
          <a:stretch/>
        </p:blipFill>
        <p:spPr>
          <a:xfrm>
            <a:off x="0" y="-22320"/>
            <a:ext cx="9144000" cy="690264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46c48"/>
            </a:gs>
            <a:gs pos="100000">
              <a:srgbClr val="fdeb9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46c48"/>
            </a:gs>
            <a:gs pos="100000">
              <a:srgbClr val="fdeb9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46c48"/>
            </a:gs>
            <a:gs pos="100000">
              <a:srgbClr val="fdeb9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46c48"/>
            </a:gs>
            <a:gs pos="100000">
              <a:srgbClr val="fdeb9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46c48"/>
            </a:gs>
            <a:gs pos="100000">
              <a:srgbClr val="fdeb9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46c48"/>
            </a:gs>
            <a:gs pos="100000">
              <a:srgbClr val="fdeb9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asy to get a place in someone's address book.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Difficult to get a place in someone's heart.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Easy to judge the mistakes of others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Difficult to recognize our own mistakes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fade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" dur="1000"/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46c48"/>
            </a:gs>
            <a:gs pos="100000">
              <a:srgbClr val="fdeb9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/>
          </p:nvPr>
        </p:nvSpPr>
        <p:spPr>
          <a:xfrm>
            <a:off x="1066680" y="1447920"/>
            <a:ext cx="6858000" cy="3581280"/>
          </a:xfrm>
          <a:prstGeom prst="rect">
            <a:avLst/>
          </a:prstGeom>
          <a:solidFill>
            <a:srgbClr val="e0ce82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nited Sai America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ance Drama b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gion 4 &amp; 7 of the US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0th July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fade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0" dur="1000"/>
                                        <p:tgtEl>
                                          <p:spTgt spid="5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000"/>
                            </p:stCondLst>
                            <p:childTnLst>
                              <p:par>
                                <p:cTn id="5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4" dur="1000"/>
                                        <p:tgtEl>
                                          <p:spTgt spid="5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2000"/>
                            </p:stCondLst>
                            <p:childTnLst>
                              <p:par>
                                <p:cTn id="5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8" dur="1000"/>
                                        <p:tgtEl>
                                          <p:spTgt spid="5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3000"/>
                            </p:stCondLst>
                            <p:childTnLst>
                              <p:par>
                                <p:cTn id="6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2" dur="1000"/>
                                        <p:tgtEl>
                                          <p:spTgt spid="5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4000"/>
                            </p:stCondLst>
                            <p:childTnLst>
                              <p:par>
                                <p:cTn id="6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6" dur="1000"/>
                                        <p:tgtEl>
                                          <p:spTgt spid="5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0"/>
                            </p:stCondLst>
                            <p:childTnLst>
                              <p:par>
                                <p:cTn id="6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0" dur="1000"/>
                                        <p:tgtEl>
                                          <p:spTgt spid="5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6000"/>
                            </p:stCondLst>
                            <p:childTnLst>
                              <p:par>
                                <p:cTn id="7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4" dur="1000"/>
                                        <p:tgtEl>
                                          <p:spTgt spid="5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46c48"/>
            </a:gs>
            <a:gs pos="100000">
              <a:srgbClr val="fdeb9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2784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46c48"/>
            </a:gs>
            <a:gs pos="100000">
              <a:srgbClr val="fdeb9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46c48"/>
            </a:gs>
            <a:gs pos="100000">
              <a:srgbClr val="fdeb9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ajananam Bhoota Ganadhi Sevitam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Kapitha Jambu Palasaara Bhakshitam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Umasutam Shokha Vinasa Karanam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Namami Vighneshwara Paada Pankaj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m Sayeesvaraya Vidmahe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Sathya Devaaya Dheemahi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  Thannah Sarva Prachodayat.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      Om Shanthi Shanthi Shanthi.</a:t>
            </a:r>
            <a:br>
              <a:rPr sz="2400"/>
            </a:b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fad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" dur="1000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" dur="1000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46c48"/>
            </a:gs>
            <a:gs pos="100000">
              <a:srgbClr val="fdeb9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46c48"/>
            </a:gs>
            <a:gs pos="100000">
              <a:srgbClr val="fdeb9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46c48"/>
            </a:gs>
            <a:gs pos="100000">
              <a:srgbClr val="fdeb9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46c48"/>
            </a:gs>
            <a:gs pos="100000">
              <a:srgbClr val="fdeb9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46c48"/>
            </a:gs>
            <a:gs pos="100000">
              <a:srgbClr val="fdeb9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/>
          </p:nvPr>
        </p:nvSpPr>
        <p:spPr>
          <a:xfrm>
            <a:off x="457200" y="167652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asy to dream every night.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Difficult to fight for a dream...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Easy to show victory.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Difficult to assume defeat with dignity..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fade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1" dur="1000"/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46c48"/>
            </a:gs>
            <a:gs pos="100000">
              <a:srgbClr val="fdeb9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46c48"/>
            </a:gs>
            <a:gs pos="100000">
              <a:srgbClr val="fdeb9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46c48"/>
            </a:gs>
            <a:gs pos="100000">
              <a:srgbClr val="fdeb9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46c48"/>
            </a:gs>
            <a:gs pos="100000">
              <a:srgbClr val="fdeb9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46c48"/>
            </a:gs>
            <a:gs pos="100000">
              <a:srgbClr val="fdeb9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asy to talk without thinking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Difficult to refrain the tongue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Easy to hurt someone who loves us.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Difficult to heal the wound...</a:t>
            </a:r>
            <a:br>
              <a:rPr sz="2400"/>
            </a:br>
            <a:br>
              <a:rPr sz="2800"/>
            </a:b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fade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8" dur="1000"/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46c48"/>
            </a:gs>
            <a:gs pos="100000">
              <a:srgbClr val="fdeb9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46c48"/>
            </a:gs>
            <a:gs pos="100000">
              <a:srgbClr val="fdeb9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46c48"/>
            </a:gs>
            <a:gs pos="100000">
              <a:srgbClr val="fdeb9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46c48"/>
            </a:gs>
            <a:gs pos="100000">
              <a:srgbClr val="fdeb9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46c48"/>
            </a:gs>
            <a:gs pos="100000">
              <a:srgbClr val="fdeb9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/>
          </p:nvPr>
        </p:nvSpPr>
        <p:spPr>
          <a:xfrm>
            <a:off x="457200" y="837720"/>
            <a:ext cx="8229600" cy="52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ligions are different, path is the same;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othes are different, cotton is one;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eings are different, Atma is one;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ationality and lifestyle are different, human birth is the same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ove All Serve All. Help Ever Hurt Neve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UTY IS GOD – WORK IS WOR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    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um Jai Sai 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fade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400"/>
                            </p:stCondLst>
                            <p:childTnLst>
                              <p:par>
                                <p:cTn id="98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3400"/>
                            </p:stCondLst>
                            <p:childTnLst>
                              <p:par>
                                <p:cTn id="10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5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5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4200"/>
                            </p:stCondLst>
                            <p:childTnLst>
                              <p:par>
                                <p:cTn id="10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5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5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46c48"/>
            </a:gs>
            <a:gs pos="100000">
              <a:srgbClr val="fdeb9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46c48"/>
            </a:gs>
            <a:gs pos="100000">
              <a:srgbClr val="fdeb9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46c48"/>
            </a:gs>
            <a:gs pos="100000">
              <a:srgbClr val="fdeb9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46c48"/>
            </a:gs>
            <a:gs pos="100000">
              <a:srgbClr val="fdeb9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46c48"/>
            </a:gs>
            <a:gs pos="100000">
              <a:srgbClr val="fdeb9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0876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46c48"/>
            </a:gs>
            <a:gs pos="100000">
              <a:srgbClr val="fdeb9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asy to forgive others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Difficult to ask for forgiveness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Easy to set rules.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Difficult to follow them...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fade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" dur="1000"/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8T09:18:43Z</dcterms:created>
  <dc:creator>user</dc:creator>
  <dc:description/>
  <dc:language>en-US</dc:language>
  <cp:lastModifiedBy>user</cp:lastModifiedBy>
  <dcterms:modified xsi:type="dcterms:W3CDTF">2009-08-22T09:53:45Z</dcterms:modified>
  <cp:revision>5</cp:revision>
  <dc:subject/>
  <dc:title>027.Ranga Reddy Parthi Yatra   Distribution and Musical Offering   27th July 2009</dc:title>
</cp:coreProperties>
</file>