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57C-2F95-4066-981C-A35DB185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1D4-F12B-40EB-B6FA-8B7A87E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4CC-4E65-4BA1-B8D6-3515063D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737-C473-44D5-90BF-24BB95B8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68D3-92F1-4259-98FF-B4B57C93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F78-5D9B-40DD-AA3C-67FF1CF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E817-3483-44AE-8D1E-F308E54D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F794-0542-4864-8146-DFB78837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512C-DC74-4E79-83E5-F2040AC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F34-413B-4600-A6B3-924FDD5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76B-4AEB-49A0-959C-469B3F6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D71-897D-4876-90AF-04CF9C3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C88-9649-4AB4-A5EA-90B210A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31F5-5C31-4AA1-926F-5918A55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D93-38CD-4031-82C0-02EA21C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795-B0C7-4ADE-86D9-FDB13CF1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8E65-C79E-4A44-BABD-CB1E4208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AB4-393E-4041-A4A2-8806953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99E-BE0D-4AE4-84D1-6A7E98F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C36-E599-49C8-948D-3B21D44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55D-DD54-4137-ADB4-50BA69E9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650-6C7D-4099-B9A5-FEBCFB5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638-B260-4E04-9879-76CFA66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92C-5595-4BCA-9A8B-93E9F79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35F-3C33-45E7-9C2C-CAC07019D04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00FA-0D86-4829-B278-5955C99D304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CHEONG Yee T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etrician &amp; Gynaec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nd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ght loss, nocturnal sweats, cough and haemopt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ions : CXR, sputum AFB, MANTOUX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care with physi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ation 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razinamide, rifampicin, isoniazid – 2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fampicin, isoniazid – 4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ridoxine given to reduce peripheral neur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uring pregnancy thyroid binding globulin increa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levels of hCG mimic TS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tal T4 increase, Free T4 maint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hyroidis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Graves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immune disease with antibodies against TSH recep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pregnancy on hyperthyroidism: Graves disease often improv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ffect of hyperthyroidism on pregna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ll controlled rarely hav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contro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ontaneous misc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romosomal anoma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UG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term deli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ase perinatal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lp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appet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mi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t intole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ed bowel fun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T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bimaz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anolol when symptoma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east feeding is sa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hyroidism: r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treated g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carriag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birt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norma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: thyroxin suppl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-partum thyroi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ent hyperthyroidism followed by hypothyroid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hyroidism may be associated with post partum depre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siological changes in the respiratory system in pregna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2 consumption increases by 30% due to demands of fetoplacental unit and an increased maternal metabolic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O2 maintained, paCO2 redu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dal volume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iratory rate –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% of pregnant w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asthma in pregna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 controlled, no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aternal hypoxia may increase fetal risk (IUG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pregnancy on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sistent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worsens, some improves, some remain the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nd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cough, wheeze, S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respiratory rat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ssion of intercostal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ions : ABG, PEFR (peak respiratory flow r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care with physi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 aller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sympathomimetics – salbutamol, terbutaline (inhal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oid inha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l prednisol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oid side effects : maternal diabetes, IUG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is on the incr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be associated with HIV 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TB in pregna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ulmonary Disease &amp;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yrotoxicos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pregnancy in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nital TB is r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nal active TB – neonate is at risk of airborne 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onate should be immunized with isoniazid-resistant BH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reastfeed during TB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3:31:04Z</dcterms:created>
  <dc:creator>mthatta</dc:creator>
  <dc:description/>
  <dc:language>en-US</dc:language>
  <cp:lastModifiedBy>mthatta</cp:lastModifiedBy>
  <dcterms:modified xsi:type="dcterms:W3CDTF">2005-10-05T05:41:24Z</dcterms:modified>
  <cp:revision>22</cp:revision>
  <dc:subject/>
  <dc:title>ONCOGENES</dc:title>
</cp:coreProperties>
</file>