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EF5D-074F-4831-BB68-30F5B43B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0A9-9C82-44BA-A50C-8D2E0B47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BFB-E6ED-4918-8CAD-8408E487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ABB4-86A4-4438-B5C8-16CDB627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A92-BE39-4F70-9805-B8D80E5B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E8E-7E2B-4009-A454-111B867E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878-DB45-4555-ACB8-5EEF0C66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227-0853-4772-A9EF-284F896F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8C0E-83BF-4BC1-B0D0-DAA8BAD4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216-A3FB-426D-8F93-6456E028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935E-75C2-415A-B711-9834BC5B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6EA-1788-40AF-8141-4114E484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081D-4CA9-4FB1-9EDA-5D1A1638C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ooter Placeholder 18"/>
          <p:cNvSpPr/>
          <p:nvPr/>
        </p:nvSpPr>
        <p:spPr>
          <a:xfrm>
            <a:off x="304920" y="6416640"/>
            <a:ext cx="556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en : Suhana, S.S,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ooter Placeholder 18"/>
          <p:cNvSpPr/>
          <p:nvPr/>
        </p:nvSpPr>
        <p:spPr>
          <a:xfrm>
            <a:off x="5181480" y="630864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d9d9"/>
                </a:solidFill>
                <a:latin typeface="Arial"/>
              </a:rPr>
              <a:t>EKO SUDARMAKIYA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b V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si dan M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i peristiwa afekti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yang menyatakan bahwa peristiwa-peristiwa di tempat kerja menyebabkan reaksi emosional di bagian karyawan, yang kemudian mempengaruhi sikap dan perilaku di tempat ker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stiwa kerja (konflik, klik)  di tempat kerja bisa mempengaruhi sejumlah variabel  kinerja dan kepuasan (OCB, komitmen, turnover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cerdasan Emosi (E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 terdiri dari lima dimensi: kesadaran diri (sadar atas apa yang dirasakan), manajemen diri (kemampuan mengelola emosi), motivasi diri, empati (kemampuan merasakan apa yang dirasakan orang lain) dan ketrampilan sosial (kemampuan menangani emosi orang l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sus medukung 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a tarik intuitif (adalah baik memiliki lima dimensi E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 meramalkan kriteria yang penting (penelitian: EI yang tinggi berpengaruh pada kiner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 berbasis biologis (orang dengan kerusakan neurologi memiliki nilai lebih rendah pada EI dibandingkan yang se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sus menentang 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 adalah sebuah konsep yang samar (tidak jelas apa yang dimaksud EI, apakah EI suatu kecerdas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 tidak bisa diukur: beberapa tes memang memiliki jawaban benar dan salah, meskipun validitas pertanyaannya masih diraguk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itas EI masih dipertanyakan (belum banyak ris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likasi PO terhadap Emosi dan Suasana H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ksi: semakin banyak pemberi kerja mulai menggunakan ukuran EI dalam rekrutmen (menambah kriteria selek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gambilan keputusan: bukti terkini menyatakan orang-orang yang tertekan membuat keputusan yang lebih buruk dibanding orang yang baha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likasi PO terhadap Emosi dan Suasana H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ativitas: orang-orang yang berada dalam suasana hati yang baik lebih kreatif dibandingkan orang-orang dalam suasana hati sebalikny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si: organisasi yang mempromosikan suasana hati positif di tempat kerja lebih berkemungkinan mempunyai angkatan kerja yang termotiv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likasi PO terhadap Emosi dan Suasana H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pemimpinan: para pemimpin yang efektif mengandalkan daya tarik emosional untuk membantu menyampaikan pesan-pesan mer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flik antar personal: manajer yang mengabaikan elemen-elemen emosional dalam konflik serta hanya fokus pada hal-hal yang bersifat rasional, kemungkinan tidak bisa meyelesaikan konfl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likasi PO terhadap Emosi dan Suasana H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siasi: beberapa penelitian menunjukkan bahwa negosiator yang pura-pura marah memiliki keuntungan ats lawan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ayanan pelanggan:  keadaan emosional seseorang mempengaruhi pelayanan pelang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likasi PO terhadap Emosi dan Suasana H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kap kerja: beberapa penelitian menunjukkan bahwa orang-orang yang mempunyai hari baik di tempat kerja cenderung berada dalam suasana hati yang lebih baik di rumah pada malam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ng yang mengalami hari penuh tekanan di tempat kerja cenderung kesulitan untuk rileks setelah pulang ke rum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likasi PO terhadap Emosi dan Suasana H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laku menyimpang di tempat kerja: Emosi negatif dapat membawa sejumlah perilaku menyimpang di tempat kerja (iri hati, rasa benci, dll sesama peker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hatian PO pada Topik Emo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 hanya memberi sedikit perhatian pada topik 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a alasannya: mitos rasionalitas dan keyakinan bahwa segala bentuk emosi bersifat menggang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os rasionalitas: manajemen ilmiah (organisasi yang baik adalah dijalankan dengan tanpa frustasi, kemarahan dan rasa benci). Emosi bukanlah hal yang ra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gaimana para manajer mempengaruhi suasana h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jer dapat meningkatkan suasana hati karyawannya dengan: memutar sebuah klip video yang lucu, mengajak makan dalam suasana yang santai, penghargaan kecil sebagai apresiasi kinerja karyawan, hu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buah riset: ketika susana hati pemimpin baik, anggota kelompok menjadi lebih positif dan bisa kerja sama dengan ba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akah Afek, Emosi dan Suasana Hati it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ek: beragam perasaan yang dialami seseor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si: perasaan intens yang ditujukan kepada seseorang atau sesu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asana hati: perasaan yang cenderung kurang intens dibandingkan emosi dan seringkali tanpa rangsangan konteks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mpulan dasar Emo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si mencakup: rasa marah, jijik, antusias, iri, takut, frustasi, kecewa, malu, bahagia, benci, berharap, cemburu, gembira, cinta, bangga, terkejut dan sed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e Descartes (pendiri filsafat modern) menyebutkan 6 nafsu sederhana dan primitif yaitu rasa kagum, cinta, benci, hasrat, gembira dan sed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berapa Aspek Emo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 emosi: semua emosi berasal dari sistem limbik otak (emosi positif jika sistem limbik tidak aktif, dan sebalikny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sitas: kepribadian menjadi penyebab perbedaan intensitas em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kuensi dan du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ionalitas dan em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asana hati sebagai Afek Positif dan Negat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ek positif: dimensi suasana hati yang terdiri dari atas emosi-emosi positif spesifik, seperti kesenangan, ketenangan, dll pada ujung yang tinggi dan kebosanan, kemalasan dan kelelahan di ujung yang renda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ek negatif: dimensi suasana hati yang terdiri dari atas kegugupan, stres dan kegelisahan pada ujung tinggi dan relaksasi, ketenangan, keseimbangan pada ujung rend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ber-sumber Emosi dan Suasana H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pribadian: memberikan kecenderungan kepada orang untuk mengalami suasana hati dan emosi tert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i dalam seminggu dan waktu dalam seh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ca,stres,aktivitas sosial, tidur, olah raga, usia dan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rja Emo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ja emosional: situasi dimana seorang karyawan mengekspresikan emosi yang diinginkan secara organisasional selama hubungan antarperonal di tempat ker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sep kerja emosional muncul dari penelitian atas pekerjaan terkait dengan  pelayanan (pramugari, CS, teller, d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Felt and displayed E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elt em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mosi sebenarnya yang dirasak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played em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mosi yang diharuskan organisasi (ekspresi kegembira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unner-u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kontes kecantik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02:37:06Z</dcterms:created>
  <dc:creator>winarsih</dc:creator>
  <dc:description/>
  <dc:language>en-US</dc:language>
  <cp:lastModifiedBy>EKO SUDARMAKIYANTO</cp:lastModifiedBy>
  <dcterms:modified xsi:type="dcterms:W3CDTF">2012-04-29T17:33:38Z</dcterms:modified>
  <cp:revision>9</cp:revision>
  <dc:subject/>
  <dc:title>Bab VI </dc:title>
</cp:coreProperties>
</file>