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D42-377D-494F-A0BB-2712D621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29F-A4FF-4EA0-8DCF-1C02A375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EB5-ACC4-418A-BF76-FA5199CA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796-635C-4A60-BA4D-3465F48F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7B2-9174-435B-BB9A-911858BC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466-D614-424D-9CB0-71B8D0C8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188-0C9E-46A2-996D-1373F0CA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8FF-3953-4BAC-9398-4AD4775A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213-2F31-4F46-891C-656F58D4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536-2BCB-4838-B904-97F1F28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3C6-083C-4C22-A271-15873487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C9C-16FF-4B7A-A831-383BA7BA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1A2D-03CF-4826-AF09-6576CDC27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18"/>
          <p:cNvSpPr/>
          <p:nvPr/>
        </p:nvSpPr>
        <p:spPr>
          <a:xfrm>
            <a:off x="304920" y="6416640"/>
            <a:ext cx="556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en : Suhana, S.S,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ooter Placeholder 18"/>
          <p:cNvSpPr/>
          <p:nvPr/>
        </p:nvSpPr>
        <p:spPr>
          <a:xfrm>
            <a:off x="5181480" y="630864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Arial"/>
              </a:rPr>
              <a:t>EKO SUDARMAKIYA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 V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si dan M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 peristiwa afek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yang menyatakan bahwa peristiwa-peristiwa di tempat kerja menyebabkan reaksi emosional di bagian karyawan, yang kemudian mempengaruhi sikap dan perilaku di tempat ke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stiwa kerja (konflik, klik)  di tempat kerja bisa mempengaruhi sejumlah variabel  kinerja dan kepuasan (OCB, komitmen, turnov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cerdasan Emosi (E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terdiri dari lima dimensi: kesadaran diri (sadar atas apa yang dirasakan), manajemen diri (kemampuan mengelola emosi), motivasi diri, empati (kemampuan merasakan apa yang dirasakan orang lain) dan ketrampilan sosial (kemampuan menangani emosi orang l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us medukung 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a tarik intuitif (adalah baik memiliki lima dimensi 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meramalkan kriteria yang penting (penelitian: EI yang tinggi berpengaruh pada kine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berbasis biologis (orang dengan kerusakan neurologi memiliki nilai lebih rendah pada EI dibandingkan yang se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us menentang 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adalah sebuah konsep yang samar (tidak jelas apa yang dimaksud EI, apakah EI suatu kecerdas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 tidak bisa diukur: beberapa tes memang memiliki jawaban benar dan salah, meskipun validitas pertanyaannya masih diraguk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itas EI masih dipertanyakan (belum banyak ris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ksi: semakin banyak pemberi kerja mulai menggunakan ukuran EI dalam rekrutmen (menambah kriteria selek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ambilan keputusan: bukti terkini menyatakan orang-orang yang tertekan membuat keputusan yang lebih buruk dibanding orang yang baha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ativitas: orang-orang yang berada dalam suasana hati yang baik lebih kreatif dibandingkan orang-orang dalam suasana hati sebalikn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si: organisasi yang mempromosikan suasana hati positif di tempat kerja lebih berkemungkinan mempunyai angkatan kerja yang termotiv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emimpinan: para pemimpin yang efektif mengandalkan daya tarik emosional untuk membantu menyampaikan pesan-pesan mer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antar personal: manajer yang mengabaikan elemen-elemen emosional dalam konflik serta hanya fokus pada hal-hal yang bersifat rasional, kemungkinan tidak bisa meyelesaikan konf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siasi: beberapa penelitian menunjukkan bahwa negosiator yang pura-pura marah memiliki keuntungan ats lawan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yanan pelanggan:  keadaan emosional seseorang mempengaruhi pelayanan pelang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kap kerja: beberapa penelitian menunjukkan bahwa orang-orang yang mempunyai hari baik di tempat kerja cenderung berada dalam suasana hati yang lebih baik di rumah pada malam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 yang mengalami hari penuh tekanan di tempat kerja cenderung kesulitan untuk rileks setelah pulang ke rum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kasi PO terhadap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laku menyimpang di tempat kerja: Emosi negatif dapat membawa sejumlah perilaku menyimpang di tempat kerja (iri hati, rasa benci, dll sesama peke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hatian PO pada Topik Em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 hanya memberi sedikit perhatian pada topik 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 alasannya: mitos rasionalitas dan keyakinan bahwa segala bentuk emosi bersifat menggang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s rasionalitas: manajemen ilmiah (organisasi yang baik adalah dijalankan dengan tanpa frustasi, kemarahan dan rasa benci). Emosi bukanlah hal yang ra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gaimana para manajer mempengaruhi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jer dapat meningkatkan suasana hati karyawannya dengan: memutar sebuah klip video yang lucu, mengajak makan dalam suasana yang santai, penghargaan kecil sebagai apresiasi kinerja karyawan, h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uah riset: ketika susana hati pemimpin baik, anggota kelompok menjadi lebih positif dan bisa kerja sama dengan ba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akah Afek, Emosi dan Suasana Hati i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ek: beragam perasaan yang dialami seseor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si: perasaan intens yang ditujukan kepada seseorang atau sesu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asana hati: perasaan yang cenderung kurang intens dibandingkan emosi dan seringkali tanpa rangsangan konteks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mpulan dasar Em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si mencakup: rasa marah, jijik, antusias, iri, takut, frustasi, kecewa, malu, bahagia, benci, berharap, cemburu, gembira, cinta, bangga, terkejut dan sed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 Descartes (pendiri filsafat modern) menyebutkan 6 nafsu sederhana dan primitif yaitu rasa kagum, cinta, benci, hasrat, gembira dan sed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berapa Aspek Em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 emosi: semua emosi berasal dari sistem limbik otak (emosi positif jika sistem limbik tidak aktif, dan sebalikny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itas: kepribadian menjadi penyebab perbedaan intensitas em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kuensi dan du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ionalitas dan em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asana hati sebagai Afek Positif dan Negat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k positif: dimensi suasana hati yang terdiri dari atas emosi-emosi positif spesifik, seperti kesenangan, ketenangan, dll pada ujung yang tinggi dan kebosanan, kemalasan dan kelelahan di ujung yang rend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k negatif: dimensi suasana hati yang terdiri dari atas kegugupan, stres dan kegelisahan pada ujung tinggi dan relaksasi, ketenangan, keseimbangan pada ujung ren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ber-sumber Emosi dan Suasana H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ribadian: memberikan kecenderungan kepada orang untuk mengalami suasana hati dan emosi ter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i dalam seminggu dan waktu dalam seh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ca,stres,aktivitas sosial, tidur, olah raga, usia dan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ja Emo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ja emosional: situasi dimana seorang karyawan mengekspresikan emosi yang diinginkan secara organisasional selama hubungan antarperonal di tempat ke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sep kerja emosional muncul dari penelitian atas pekerjaan terkait dengan  pelayanan (pramugari, CS, teller, d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elt and displayed E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elt e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osi sebenarnya yang dirasa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played e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osi yang diharuskan organisasi (ekspresi kegembira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nner-u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kontes kecantik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2:37:06Z</dcterms:created>
  <dc:creator>winarsih</dc:creator>
  <dc:description/>
  <dc:language>en-US</dc:language>
  <cp:lastModifiedBy>EKO SUDARMAKIYANTO</cp:lastModifiedBy>
  <dcterms:modified xsi:type="dcterms:W3CDTF">2012-04-29T17:33:38Z</dcterms:modified>
  <cp:revision>9</cp:revision>
  <dc:subject/>
  <dc:title>Bab VI </dc:title>
</cp:coreProperties>
</file>