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explode.wav" ContentType="audio/x-wav"/>
  <Override PartName="/ppt/media/image23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5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97E3-9D1E-41A2-9352-932E0D2B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8F99-1564-426E-A05E-1567CA5E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3D6C5-B68F-462C-BF34-32EB88BA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5730A-65EA-48A2-9DD7-53A59775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A6D30-D061-4B0D-96E2-5D490FDC8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6A24F-6667-4ACA-AECE-97EAFC97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EEA96-C273-49BF-9B27-4A6D7858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7AE2B-6E8E-42C1-B9C8-5533F283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1066D-F403-459C-86E7-97EBC12B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FE84F-AF48-4F04-B3E3-9DE33C2F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901D5A-C23A-4026-896C-B637377E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83B8-CFD7-40C3-8B52-1AE8B860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DAF3-74F0-4B38-94D3-77575AF6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F2DC-01FF-4092-9609-2CC53F21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D722-5F68-4D55-A10D-4BE65F56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95F3-57B3-47C5-B821-8EB50A32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4030-ADD0-4C18-AFEC-3DF3E19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9701-44EC-4680-839B-EC31CDB8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8C9D-8917-439A-AB03-1B4340DB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3D71-16EC-4244-8CC1-8A05E925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A9A-118E-4AC5-807B-19FC4A71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CC85-2A8D-4553-8DE3-B331654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CC54-4354-499E-81D8-AA23D237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FA9C-FAF8-4159-95B5-8D59B7B6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E87E-9A18-4B18-AA80-375E56FE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AA811-64E0-41DF-8598-3F86E9DD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6D7D-B383-4EA4-98E0-A3658325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50755-9EFB-4C1F-B77B-1854CDB1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6A08-F5B2-4737-B3E1-E588A25D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BAC6-AB9C-463B-A185-68527209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3F6E4-DA76-4C8D-97EC-41A2901A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401C-4122-4217-9983-0DE90526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EA88-1B6B-4052-B14A-B4607EF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4AD23-7D78-48F4-9553-094A5D80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EB13-68B6-4369-9404-3FDDF147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7BC3E-102A-4A25-B567-F1EB142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501E-3ADA-4A02-BEBB-6F9BD058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414E8-B8E9-4A6A-AAB9-5530A0FA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6A62A-F04E-470F-BEB2-7D799250C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859FD-CD49-4605-B052-86FF197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9770-32D3-4439-A82E-AEE72DD2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E223F-3C68-41A4-A25F-D719CEC7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AB6-8642-49C5-9D88-4FC7F89C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FF8B-EBF6-4601-B17C-E01FC6C1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6BC8C-E34E-4AAB-B7EC-5254FBA7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A1B41-C15B-4B42-B3D6-297D7ECB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0153F-F554-47D8-8416-2B740A43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E9A8A-309A-4CCF-8D47-A14854F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A9601-94C6-4737-B63B-FB79E613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1AC9C-7B4A-4240-A177-659777FF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FB00E-7C42-4BBC-B600-79F8C877B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F8DC1-82E5-4C12-B324-962997DB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1D166-8C12-440F-8CFC-809E9E94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A0E-680C-4A7E-8582-51A547DA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E6E5-2D29-468B-80D7-C25813C9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A36C9-6BD5-4CE0-8FC3-DB649BA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D1CF8-83E5-420F-9C91-0B2EB242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134A4-5439-476F-8D05-B41F9F20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CAE16-F6A9-44FE-8CB9-66E6D23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F271A-A2B6-4264-B99D-0FE1DF7D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178E-2589-4431-89BF-A523F78C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27CCD-D81E-4997-A2DD-6AB81C84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F2650-2910-49B5-8137-A074A1BD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13678-499B-47A2-B111-657C3925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FF0-91DA-4228-9086-5CD64486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DC148-FEE0-4E16-996E-1A6C614F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446F0-2900-4181-B7FB-4D3A69D5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D28B6-84DF-4956-9B10-1663CDE8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C4A45-4D8C-4483-B5BC-379063CA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48835-3CCB-4605-9C8B-A7FA9ADB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22EC5-58AD-4830-A78D-3150A549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82554-900F-4D33-92C2-09E6F77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67EA9-02B9-4566-A9C6-C0427EA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714A-F541-4E56-9523-A21F2287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FF160-7FAB-45C2-9D5F-F081AEF6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134-5D33-4F2C-B796-1917801E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86FF8-53F7-4532-9699-560571B9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71183-F41B-4645-91E8-8E888F130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9F000-4570-4863-AE68-30A2B863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03800-7C61-4AD6-B0E0-DEFE8300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EFB20-380F-480C-86C9-B7197740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A0801-0DCD-470A-8CE6-D9982AC0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3F958-3C35-4AD6-A484-F451E854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5ACCB-84A9-4DD5-9A45-464E4DE0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B9C18-4863-4E6F-91A4-99364635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E517C-C9D0-4C03-8B27-C4D9E864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B25B-476C-4EF8-A565-BA3AA542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0CF4-37E3-4723-AC30-705198D4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7E7C-F1E4-48CD-B37E-310C28CB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3F76A-A1C1-4F0E-B8F1-C0C79E91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72581-6A2A-4FB7-ADF5-0B4BF306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325F6-7F0B-4763-BBA6-327AF89E3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4DDD4-60AA-40FC-A1DA-5D30A2C5F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F6085-9709-43BE-A1EC-54A76A03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2FFDD-A67C-45B7-B50A-06D10133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0FF21-A54A-4BE5-B7AB-E083049E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C6E14-1E5B-486B-B893-E0AAB051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AB00-0914-4B94-BD2A-73D834FE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B4F2B-6C58-48D7-979E-270E52C1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B263-42DF-4F09-9A02-7007C759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1D39B-B9BE-4692-8A15-A481FBB7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DAAD7-A8BA-4311-8E0C-C5E3B20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6EC1F-167C-4FAE-957F-8E849C60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65015-B0F8-4C7F-BABD-4C32F503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77C59-224F-4BFE-8B0C-B4E26C91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839F9-E5A2-456E-ADB7-E91DA9DB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D6B7C-F5C5-4967-87CE-208DEA4F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06B07-A25D-4DF0-96C8-8067A3A8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10AB-CED6-405A-8D50-F7C9835CEB6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59A0-311C-4110-8BD7-8533677944C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EE84-AD44-444A-A327-DE3EA2C6824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3D6-2A5E-4016-B947-62FEF860726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0EA1-32B0-4870-BF45-36BBA8EA856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C2C-B570-4039-9821-16998735C21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5AFB-4F3F-44D9-BD06-4A75E250BE8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5AE2-98B2-49DD-ADFF-403F45CDEA9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06FF-4599-4007-881F-97FCEFC449F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image" Target="../media/image7.jpeg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4"/>
          <p:cNvSpPr/>
          <p:nvPr/>
        </p:nvSpPr>
        <p:spPr>
          <a:xfrm>
            <a:off x="914400" y="2057400"/>
            <a:ext cx="3886200" cy="1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5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6"/>
          <p:cNvSpPr/>
          <p:nvPr/>
        </p:nvSpPr>
        <p:spPr>
          <a:xfrm flipV="1">
            <a:off x="4786200" y="1981080"/>
            <a:ext cx="367200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2590560" y="2590560"/>
            <a:ext cx="556236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Verdana (Headings)"/>
              </a:rPr>
              <a:t>SEO Presentation – 2015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Verdana (Headings)"/>
              </a:rPr>
              <a:t>	</a:t>
            </a:r>
            <a:r>
              <a:rPr b="0" lang="en-US" sz="2400" spc="-1" strike="noStrike">
                <a:solidFill>
                  <a:srgbClr val="00b0f0"/>
                </a:solidFill>
                <a:latin typeface="Verdana (Headings)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Verdana (Headings)"/>
              </a:rPr>
              <a:t>By </a:t>
            </a:r>
            <a:r>
              <a:rPr b="1" lang="en-US" sz="2400" spc="-1" strike="noStrike">
                <a:solidFill>
                  <a:srgbClr val="0070c0"/>
                </a:solidFill>
                <a:latin typeface="Verdana (Headings)"/>
              </a:rPr>
              <a:t>Web Brain</a:t>
            </a:r>
            <a:r>
              <a:rPr b="1" lang="en-US" sz="2400" spc="-1" strike="noStrike">
                <a:solidFill>
                  <a:srgbClr val="00b0f0"/>
                </a:solidFill>
                <a:latin typeface="Verdana (Headings)"/>
              </a:rPr>
              <a:t> InfoTech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3329"/>
                </a:solidFill>
                <a:latin typeface="Verdana (Headings)"/>
              </a:rPr>
              <a:t>http://www.webbraininfotech.com/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logo"/>
          <p:cNvPicPr/>
          <p:nvPr/>
        </p:nvPicPr>
        <p:blipFill>
          <a:blip r:embed="rId2"/>
          <a:stretch/>
        </p:blipFill>
        <p:spPr>
          <a:xfrm>
            <a:off x="-60480" y="-12600"/>
            <a:ext cx="2333880" cy="21762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8"/>
          <p:cNvSpPr/>
          <p:nvPr/>
        </p:nvSpPr>
        <p:spPr>
          <a:xfrm>
            <a:off x="1066680" y="142704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 (Headings)"/>
              </a:rPr>
              <a:t>Web Brain Info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 advTm="12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Users\HP\Downloads\panda7.jpg"/>
          <p:cNvPicPr/>
          <p:nvPr/>
        </p:nvPicPr>
        <p:blipFill>
          <a:blip r:embed="rId2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pic>
        <p:nvPicPr>
          <p:cNvPr id="472" name="Title 1" descr=""/>
          <p:cNvPicPr/>
          <p:nvPr/>
        </p:nvPicPr>
        <p:blipFill>
          <a:blip r:embed="rId3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pic>
        <p:nvPicPr>
          <p:cNvPr id="473" name="Content Placeholder 4" descr="Google-Panda-and-Penguin.jpg"/>
          <p:cNvPicPr/>
          <p:nvPr/>
        </p:nvPicPr>
        <p:blipFill>
          <a:blip r:embed="rId4"/>
          <a:stretch/>
        </p:blipFill>
        <p:spPr>
          <a:xfrm>
            <a:off x="158760" y="1523880"/>
            <a:ext cx="87631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" descr="C:\Users\HP\Downloads\panda7.jpg"/>
          <p:cNvPicPr/>
          <p:nvPr/>
        </p:nvPicPr>
        <p:blipFill>
          <a:blip r:embed="rId2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pic>
        <p:nvPicPr>
          <p:cNvPr id="478" name="Title 1" descr=""/>
          <p:cNvPicPr/>
          <p:nvPr/>
        </p:nvPicPr>
        <p:blipFill>
          <a:blip r:embed="rId3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pic>
        <p:nvPicPr>
          <p:cNvPr id="479" name="Diagram 11" descr=""/>
          <p:cNvPicPr/>
          <p:nvPr/>
        </p:nvPicPr>
        <p:blipFill>
          <a:blip r:embed="rId4"/>
          <a:stretch/>
        </p:blipFill>
        <p:spPr>
          <a:xfrm>
            <a:off x="378000" y="1736640"/>
            <a:ext cx="8242200" cy="338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C:\Users\HP\Downloads\panda7.jpg"/>
          <p:cNvPicPr/>
          <p:nvPr/>
        </p:nvPicPr>
        <p:blipFill>
          <a:blip r:embed="rId2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pic>
        <p:nvPicPr>
          <p:cNvPr id="484" name="Title 1" descr=""/>
          <p:cNvPicPr/>
          <p:nvPr/>
        </p:nvPicPr>
        <p:blipFill>
          <a:blip r:embed="rId3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sp>
        <p:nvSpPr>
          <p:cNvPr id="485" name="Content Placeholder 2"/>
          <p:cNvSpPr/>
          <p:nvPr/>
        </p:nvSpPr>
        <p:spPr>
          <a:xfrm>
            <a:off x="304920" y="228600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1. Penalize websites of low quality and those with low quality content. It is first introduced in 24th February, 201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2. First rolled out in February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3. Bring the high quality and content sites on the top of search engine rank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0"/>
          <p:cNvSpPr/>
          <p:nvPr/>
        </p:nvSpPr>
        <p:spPr>
          <a:xfrm>
            <a:off x="533520" y="1523880"/>
            <a:ext cx="3733560" cy="68580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1"/>
          <p:cNvSpPr/>
          <p:nvPr/>
        </p:nvSpPr>
        <p:spPr>
          <a:xfrm>
            <a:off x="5257800" y="1600200"/>
            <a:ext cx="3505320" cy="685800"/>
          </a:xfrm>
          <a:prstGeom prst="rect">
            <a:avLst/>
          </a:prstGeom>
          <a:solidFill>
            <a:srgbClr val="0070c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) 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990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)  P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Content Placeholder 2"/>
          <p:cNvSpPr/>
          <p:nvPr/>
        </p:nvSpPr>
        <p:spPr>
          <a:xfrm>
            <a:off x="4876920" y="137160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1. Step down websites that violates Google’s Webmaster Guidelines and use  black-hat SEO techn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2. First rolled out in April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3. Bring the high quality and content sites on the top of search engine rank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C:\Users\HP\Downloads\panda7.jpg"/>
          <p:cNvPicPr/>
          <p:nvPr/>
        </p:nvPicPr>
        <p:blipFill>
          <a:blip r:embed="rId2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sp>
        <p:nvSpPr>
          <p:cNvPr id="494" name="Title 1"/>
          <p:cNvSpPr/>
          <p:nvPr/>
        </p:nvSpPr>
        <p:spPr>
          <a:xfrm>
            <a:off x="914400" y="274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Title 1" descr=""/>
          <p:cNvPicPr/>
          <p:nvPr/>
        </p:nvPicPr>
        <p:blipFill>
          <a:blip r:embed="rId3"/>
          <a:stretch/>
        </p:blipFill>
        <p:spPr>
          <a:xfrm>
            <a:off x="639720" y="365040"/>
            <a:ext cx="7980480" cy="1244520"/>
          </a:xfrm>
          <a:prstGeom prst="rect">
            <a:avLst/>
          </a:prstGeom>
          <a:ln w="0">
            <a:noFill/>
          </a:ln>
        </p:spPr>
      </p:pic>
      <p:sp>
        <p:nvSpPr>
          <p:cNvPr id="496" name="Content Placeholder 2"/>
          <p:cNvSpPr/>
          <p:nvPr/>
        </p:nvSpPr>
        <p:spPr>
          <a:xfrm>
            <a:off x="380880" y="144792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4. Google has not released any Tool to recover from this algorithm update Penal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5. Possible that an entire site is affected through panda. Usually single pages of a website are not targeted in the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6. No any Manual Removal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0"/>
          <p:cNvSpPr/>
          <p:nvPr/>
        </p:nvSpPr>
        <p:spPr>
          <a:xfrm>
            <a:off x="5257800" y="1600200"/>
            <a:ext cx="3505320" cy="685800"/>
          </a:xfrm>
          <a:prstGeom prst="rect">
            <a:avLst/>
          </a:prstGeom>
          <a:solidFill>
            <a:srgbClr val="0070c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)  Pengu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1"/>
          <p:cNvSpPr/>
          <p:nvPr/>
        </p:nvSpPr>
        <p:spPr>
          <a:xfrm>
            <a:off x="990720" y="16765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)  P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ontent Placeholder 2"/>
          <p:cNvSpPr/>
          <p:nvPr/>
        </p:nvSpPr>
        <p:spPr>
          <a:xfrm>
            <a:off x="4876920" y="1371600"/>
            <a:ext cx="4038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4. Google introduced A new tool called “disavow links tool” to get rid of this penal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5. Penguin generally affects one part of the website on a page and keywor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43329"/>
                </a:solidFill>
                <a:latin typeface="Franklin Gothic Book"/>
              </a:rPr>
              <a:t>6. Manual Link Removal is help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1"/>
          <p:cNvSpPr/>
          <p:nvPr/>
        </p:nvSpPr>
        <p:spPr>
          <a:xfrm>
            <a:off x="533520" y="1600200"/>
            <a:ext cx="3733560" cy="685800"/>
          </a:xfrm>
          <a:prstGeom prst="rect">
            <a:avLst/>
          </a:prstGeom>
          <a:solidFill>
            <a:srgbClr val="00b05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2"/>
          <p:cNvSpPr/>
          <p:nvPr/>
        </p:nvSpPr>
        <p:spPr>
          <a:xfrm>
            <a:off x="1143000" y="18288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A)  P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Title 1" descr=""/>
          <p:cNvPicPr/>
          <p:nvPr/>
        </p:nvPicPr>
        <p:blipFill>
          <a:blip r:embed="rId1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sp>
        <p:nvSpPr>
          <p:cNvPr id="503" name="Straight Connector 4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5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2" descr="logo"/>
          <p:cNvPicPr/>
          <p:nvPr/>
        </p:nvPicPr>
        <p:blipFill>
          <a:blip r:embed="rId2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C:\Users\HP\Downloads\image2.jpg"/>
          <p:cNvPicPr/>
          <p:nvPr/>
        </p:nvPicPr>
        <p:blipFill>
          <a:blip r:embed="rId4"/>
          <a:stretch/>
        </p:blipFill>
        <p:spPr>
          <a:xfrm>
            <a:off x="138240" y="1419120"/>
            <a:ext cx="8839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sp>
        <p:nvSpPr>
          <p:cNvPr id="509" name="Straight Connector 4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Rectangle 7" descr=""/>
          <p:cNvPicPr/>
          <p:nvPr/>
        </p:nvPicPr>
        <p:blipFill>
          <a:blip r:embed="rId2"/>
          <a:stretch/>
        </p:blipFill>
        <p:spPr>
          <a:xfrm>
            <a:off x="639720" y="212760"/>
            <a:ext cx="8205840" cy="13111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9"/>
          <p:cNvSpPr/>
          <p:nvPr/>
        </p:nvSpPr>
        <p:spPr>
          <a:xfrm>
            <a:off x="914400" y="2209680"/>
            <a:ext cx="588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Call us at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(+91)-782-774-24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               </a:t>
            </a: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Shoot a mail us 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nfo@webbraininfote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rahul@webbraininfotec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14400" y="15238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We will be glad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42f"/>
                </a:solidFill>
                <a:latin typeface="Franklin Gothic Book"/>
              </a:rPr>
              <a:t>http://www.webbraininfotech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8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11" name="Title 1" descr=""/>
          <p:cNvPicPr/>
          <p:nvPr/>
        </p:nvPicPr>
        <p:blipFill>
          <a:blip r:embed="rId2"/>
          <a:stretch/>
        </p:blipFill>
        <p:spPr>
          <a:xfrm>
            <a:off x="712800" y="365040"/>
            <a:ext cx="7980480" cy="1244520"/>
          </a:xfrm>
          <a:prstGeom prst="rect">
            <a:avLst/>
          </a:prstGeom>
          <a:ln w="0">
            <a:noFill/>
          </a:ln>
        </p:spPr>
      </p:pic>
      <p:sp>
        <p:nvSpPr>
          <p:cNvPr id="412" name="Content Placeholder 2"/>
          <p:cNvSpPr/>
          <p:nvPr/>
        </p:nvSpPr>
        <p:spPr>
          <a:xfrm>
            <a:off x="838080" y="-2286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Google  p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Google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How to combat Google panda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Google’s panda and pengu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17" name="Title 1" descr=""/>
          <p:cNvPicPr/>
          <p:nvPr/>
        </p:nvPicPr>
        <p:blipFill>
          <a:blip r:embed="rId2"/>
          <a:stretch/>
        </p:blipFill>
        <p:spPr>
          <a:xfrm>
            <a:off x="719280" y="365040"/>
            <a:ext cx="4163760" cy="1116000"/>
          </a:xfrm>
          <a:prstGeom prst="rect">
            <a:avLst/>
          </a:prstGeom>
          <a:ln w="0">
            <a:noFill/>
          </a:ln>
        </p:spPr>
      </p:pic>
      <p:sp>
        <p:nvSpPr>
          <p:cNvPr id="418" name="Content Placeholder 2"/>
          <p:cNvSpPr/>
          <p:nvPr/>
        </p:nvSpPr>
        <p:spPr>
          <a:xfrm>
            <a:off x="838080" y="-2133720"/>
            <a:ext cx="7772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8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en-IN" sz="2400" spc="-1" strike="noStrike">
                <a:solidFill>
                  <a:srgbClr val="443329"/>
                </a:solidFill>
                <a:latin typeface="Franklin Gothic Book"/>
              </a:rPr>
              <a:t>Google Panda is aimed to lower the rank of "</a:t>
            </a:r>
            <a:r>
              <a:rPr b="1" lang="en-IN" sz="2400" spc="-1" strike="noStrike">
                <a:solidFill>
                  <a:srgbClr val="443329"/>
                </a:solidFill>
                <a:latin typeface="Franklin Gothic Book"/>
              </a:rPr>
              <a:t>low-quality sites</a:t>
            </a:r>
            <a:r>
              <a:rPr b="0" lang="en-IN" sz="2400" spc="-1" strike="noStrike">
                <a:solidFill>
                  <a:srgbClr val="443329"/>
                </a:solidFill>
                <a:latin typeface="Franklin Gothic Book"/>
              </a:rPr>
              <a:t>" or "</a:t>
            </a:r>
            <a:r>
              <a:rPr b="1" lang="en-IN" sz="2400" spc="-1" strike="noStrike">
                <a:solidFill>
                  <a:srgbClr val="443329"/>
                </a:solidFill>
                <a:latin typeface="Franklin Gothic Book"/>
              </a:rPr>
              <a:t>thin sites </a:t>
            </a:r>
            <a:r>
              <a:rPr b="0" lang="en-IN" sz="2400" spc="-1" strike="noStrike">
                <a:solidFill>
                  <a:srgbClr val="443329"/>
                </a:solidFill>
                <a:latin typeface="Franklin Gothic Book"/>
              </a:rPr>
              <a:t>"and return higher-quality sites near the top of the search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3" descr="C:\Users\HP\Downloads\panda3.jpg"/>
          <p:cNvPicPr/>
          <p:nvPr/>
        </p:nvPicPr>
        <p:blipFill>
          <a:blip r:embed="rId3"/>
          <a:stretch/>
        </p:blipFill>
        <p:spPr>
          <a:xfrm>
            <a:off x="547560" y="2819520"/>
            <a:ext cx="4038840" cy="2438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Users\HP\Downloads\panda12.jpg"/>
          <p:cNvPicPr/>
          <p:nvPr/>
        </p:nvPicPr>
        <p:blipFill>
          <a:blip r:embed="rId4"/>
          <a:stretch/>
        </p:blipFill>
        <p:spPr>
          <a:xfrm>
            <a:off x="4611600" y="2819520"/>
            <a:ext cx="4038840" cy="2438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6" descr="C:\Users\HP\Downloads\panda7.jpg"/>
          <p:cNvPicPr/>
          <p:nvPr/>
        </p:nvPicPr>
        <p:blipFill>
          <a:blip r:embed="rId5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25" name="TextBox 2" descr=""/>
          <p:cNvPicPr/>
          <p:nvPr/>
        </p:nvPicPr>
        <p:blipFill>
          <a:blip r:embed="rId2"/>
          <a:stretch/>
        </p:blipFill>
        <p:spPr>
          <a:xfrm>
            <a:off x="719280" y="450720"/>
            <a:ext cx="5510160" cy="111600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"/>
          <p:cNvSpPr/>
          <p:nvPr/>
        </p:nvSpPr>
        <p:spPr>
          <a:xfrm>
            <a:off x="951480" y="17524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otal Google Panda updates from 2011 to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"/>
          <p:cNvSpPr/>
          <p:nvPr/>
        </p:nvSpPr>
        <p:spPr>
          <a:xfrm>
            <a:off x="440640" y="2590920"/>
            <a:ext cx="3828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1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pril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1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9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1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2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4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2.5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Sept. 2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3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3.1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November 18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"/>
          <p:cNvSpPr/>
          <p:nvPr/>
        </p:nvSpPr>
        <p:spPr>
          <a:xfrm>
            <a:off x="4035600" y="2590920"/>
            <a:ext cx="511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Top Heavy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anuary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3.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anuary 2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3.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2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Venic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2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Matt Cutts Announces Over-Optim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enalty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rch, 16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4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rch 23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5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pril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enguin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pril 24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33" name="TextBox 2" descr=""/>
          <p:cNvPicPr/>
          <p:nvPr/>
        </p:nvPicPr>
        <p:blipFill>
          <a:blip r:embed="rId2"/>
          <a:stretch/>
        </p:blipFill>
        <p:spPr>
          <a:xfrm>
            <a:off x="719280" y="450720"/>
            <a:ext cx="5510160" cy="1116000"/>
          </a:xfrm>
          <a:prstGeom prst="rect">
            <a:avLst/>
          </a:prstGeom>
          <a:ln w="0">
            <a:noFill/>
          </a:ln>
        </p:spPr>
      </p:pic>
      <p:sp>
        <p:nvSpPr>
          <p:cNvPr id="434" name="TextBox 2"/>
          <p:cNvSpPr/>
          <p:nvPr/>
        </p:nvSpPr>
        <p:spPr>
          <a:xfrm>
            <a:off x="37800" y="2460600"/>
            <a:ext cx="552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enguin 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26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7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8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8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2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Bad Link Warnings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0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9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4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9.1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1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3.9.2 (4.0?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September 18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2"/>
          <p:cNvSpPr/>
          <p:nvPr/>
        </p:nvSpPr>
        <p:spPr>
          <a:xfrm>
            <a:off x="4715280" y="2286000"/>
            <a:ext cx="461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September 27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enguin 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Top Heavy 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9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1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November 5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2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November 21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December 21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24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 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anuary 22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"/>
          <p:cNvSpPr/>
          <p:nvPr/>
        </p:nvSpPr>
        <p:spPr>
          <a:xfrm>
            <a:off x="951480" y="17524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otal Google Panda updates from 2011 to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2"/>
          <p:cNvSpPr/>
          <p:nvPr/>
        </p:nvSpPr>
        <p:spPr>
          <a:xfrm>
            <a:off x="951480" y="17524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otal Google Panda updates from 2011 to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TextBox 2" descr=""/>
          <p:cNvPicPr/>
          <p:nvPr/>
        </p:nvPicPr>
        <p:blipFill>
          <a:blip r:embed="rId2"/>
          <a:stretch/>
        </p:blipFill>
        <p:spPr>
          <a:xfrm>
            <a:off x="719280" y="450720"/>
            <a:ext cx="5510160" cy="11160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2"/>
          <p:cNvSpPr/>
          <p:nvPr/>
        </p:nvSpPr>
        <p:spPr>
          <a:xfrm>
            <a:off x="-48600" y="2286000"/>
            <a:ext cx="521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anda #25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rch 14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Google Phantom 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9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Domain Crowding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21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enguin 2.0 (#4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22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Dance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11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"Payday Loan" Update 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11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Multi-Week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–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27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Recovery -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18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Knowledge Graph Expansion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19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6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2"/>
          <p:cNvSpPr/>
          <p:nvPr/>
        </p:nvSpPr>
        <p:spPr>
          <a:xfrm>
            <a:off x="4342680" y="2286000"/>
            <a:ext cx="5151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In-depth Articles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6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Hummingbird 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20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enguin 2.1 (#5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4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n-NO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nn-NO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nn-NO" sz="1800" spc="-1" strike="noStrike">
                <a:solidFill>
                  <a:srgbClr val="c00000"/>
                </a:solidFill>
                <a:latin typeface="Franklin Gothic Book"/>
              </a:rPr>
              <a:t>November 14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December 17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Authorship Shake-up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December 19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ge Layout #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6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rch 24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yday Loan 2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16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4.0 (#26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May 19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sp>
        <p:nvSpPr>
          <p:cNvPr id="449" name="TextBox 2"/>
          <p:cNvSpPr/>
          <p:nvPr/>
        </p:nvSpPr>
        <p:spPr>
          <a:xfrm>
            <a:off x="951480" y="175248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otal Google Panda updates from 2011 to cur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TextBox 2" descr=""/>
          <p:cNvPicPr/>
          <p:nvPr/>
        </p:nvPicPr>
        <p:blipFill>
          <a:blip r:embed="rId2"/>
          <a:stretch/>
        </p:blipFill>
        <p:spPr>
          <a:xfrm>
            <a:off x="719280" y="450720"/>
            <a:ext cx="5510160" cy="1116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2"/>
          <p:cNvSpPr/>
          <p:nvPr/>
        </p:nvSpPr>
        <p:spPr>
          <a:xfrm>
            <a:off x="-81720" y="2286000"/>
            <a:ext cx="4804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yday Loan 3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12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Authorship Photo Drop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ne 28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igeon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July 24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HTTPS/SSL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6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Authorship Removed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August 28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anda 4.1 (#27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September 23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"In The News" Box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enguin 3.0 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17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irate 2.0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October 21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70c0"/>
                </a:solidFill>
                <a:latin typeface="Franklin Gothic Book"/>
              </a:rPr>
              <a:t>Penguin Everflux — </a:t>
            </a:r>
            <a:r>
              <a:rPr b="1" lang="da-DK" sz="1800" spc="-1" strike="noStrike">
                <a:solidFill>
                  <a:srgbClr val="c00000"/>
                </a:solidFill>
                <a:latin typeface="Franklin Gothic Book"/>
              </a:rPr>
              <a:t>December 10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"/>
          <p:cNvSpPr/>
          <p:nvPr/>
        </p:nvSpPr>
        <p:spPr>
          <a:xfrm>
            <a:off x="4597200" y="3048120"/>
            <a:ext cx="44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Pigeon Expands 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K, CA, AU)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December 22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Franklin Gothic Book"/>
              </a:rPr>
              <a:t>Unnamed Update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— </a:t>
            </a:r>
            <a:r>
              <a:rPr b="1" lang="en-US" sz="1800" spc="-1" strike="noStrike">
                <a:solidFill>
                  <a:srgbClr val="c00000"/>
                </a:solidFill>
                <a:latin typeface="Franklin Gothic Book"/>
              </a:rPr>
              <a:t>February 4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6" descr="C:\Users\HP\Downloads\panda7.jpg"/>
          <p:cNvPicPr/>
          <p:nvPr/>
        </p:nvPicPr>
        <p:blipFill>
          <a:blip r:embed="rId3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57" name="Title 1" descr=""/>
          <p:cNvPicPr/>
          <p:nvPr/>
        </p:nvPicPr>
        <p:blipFill>
          <a:blip r:embed="rId2"/>
          <a:stretch/>
        </p:blipFill>
        <p:spPr>
          <a:xfrm>
            <a:off x="712800" y="182520"/>
            <a:ext cx="7980480" cy="124452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2" descr="C:\Users\HP\Downloads\panda5.jpg"/>
          <p:cNvPicPr/>
          <p:nvPr/>
        </p:nvPicPr>
        <p:blipFill>
          <a:blip r:embed="rId3"/>
          <a:stretch/>
        </p:blipFill>
        <p:spPr>
          <a:xfrm>
            <a:off x="533520" y="1905120"/>
            <a:ext cx="3886200" cy="31240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" descr="C:\Users\HP\Downloads\panda6.jpg"/>
          <p:cNvPicPr/>
          <p:nvPr/>
        </p:nvPicPr>
        <p:blipFill>
          <a:blip r:embed="rId4"/>
          <a:stretch/>
        </p:blipFill>
        <p:spPr>
          <a:xfrm>
            <a:off x="4495680" y="190512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C:\Users\HP\Downloads\panda7.jpg"/>
          <p:cNvPicPr/>
          <p:nvPr/>
        </p:nvPicPr>
        <p:blipFill>
          <a:blip r:embed="rId5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traight Connector 3"/>
          <p:cNvSpPr/>
          <p:nvPr/>
        </p:nvSpPr>
        <p:spPr>
          <a:xfrm>
            <a:off x="914400" y="1295280"/>
            <a:ext cx="3809880" cy="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"/>
          <p:cNvSpPr/>
          <p:nvPr/>
        </p:nvSpPr>
        <p:spPr>
          <a:xfrm>
            <a:off x="4724280" y="1281240"/>
            <a:ext cx="36576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logo"/>
          <p:cNvPicPr/>
          <p:nvPr/>
        </p:nvPicPr>
        <p:blipFill>
          <a:blip r:embed="rId1"/>
          <a:stretch/>
        </p:blipFill>
        <p:spPr>
          <a:xfrm>
            <a:off x="5724360" y="5334120"/>
            <a:ext cx="3419640" cy="1371600"/>
          </a:xfrm>
          <a:prstGeom prst="rect">
            <a:avLst/>
          </a:prstGeom>
          <a:ln w="0">
            <a:noFill/>
          </a:ln>
        </p:spPr>
      </p:pic>
      <p:pic>
        <p:nvPicPr>
          <p:cNvPr id="464" name="Title 1" descr=""/>
          <p:cNvPicPr/>
          <p:nvPr/>
        </p:nvPicPr>
        <p:blipFill>
          <a:blip r:embed="rId2"/>
          <a:stretch/>
        </p:blipFill>
        <p:spPr>
          <a:xfrm>
            <a:off x="719280" y="128520"/>
            <a:ext cx="7974000" cy="1596960"/>
          </a:xfrm>
          <a:prstGeom prst="rect">
            <a:avLst/>
          </a:prstGeom>
          <a:ln w="0">
            <a:noFill/>
          </a:ln>
        </p:spPr>
      </p:pic>
      <p:sp>
        <p:nvSpPr>
          <p:cNvPr id="465" name="Content Placeholder 2"/>
          <p:cNvSpPr/>
          <p:nvPr/>
        </p:nvSpPr>
        <p:spPr>
          <a:xfrm>
            <a:off x="565200" y="228600"/>
            <a:ext cx="3919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Originally dubbed the Farmer Update by  search engine land, Google’s latest algorithm shake-up was clearly targeted to resolve many of the issues with low-value content farms invading the search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C:\Users\HP\Downloads\kungfupanda.jpg"/>
          <p:cNvPicPr/>
          <p:nvPr/>
        </p:nvPicPr>
        <p:blipFill>
          <a:blip r:embed="rId3"/>
          <a:stretch/>
        </p:blipFill>
        <p:spPr>
          <a:xfrm>
            <a:off x="4756320" y="1828800"/>
            <a:ext cx="3962160" cy="31240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" descr="C:\Users\HP\Downloads\panda7.jpg"/>
          <p:cNvPicPr/>
          <p:nvPr/>
        </p:nvPicPr>
        <p:blipFill>
          <a:blip r:embed="rId4"/>
          <a:stretch/>
        </p:blipFill>
        <p:spPr>
          <a:xfrm>
            <a:off x="0" y="5410080"/>
            <a:ext cx="4572000" cy="14479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2T18:36:11Z</dcterms:created>
  <dc:creator>ABCD</dc:creator>
  <dc:description/>
  <dc:language>en-US</dc:language>
  <cp:lastModifiedBy>Rahul</cp:lastModifiedBy>
  <dcterms:modified xsi:type="dcterms:W3CDTF">2015-04-15T12:11:47Z</dcterms:modified>
  <cp:revision>20</cp:revision>
  <dc:subject/>
  <dc:title>Slide 1</dc:title>
</cp:coreProperties>
</file>