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F31-5D1C-49D2-B9F8-B03075DA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952-67AA-4C53-B7EC-0B5B809A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253-4BEF-4877-822A-A3334A6C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FFA-CD5C-4E37-B312-5106AAD2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E06-2862-48E8-A8B4-5D756F24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21F-38F5-48AC-AA18-3F783731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128-81AB-4E81-9A10-D5A9DED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999-F9BC-48C8-8D04-AD77C29C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7F3-3B0F-42EE-8336-D468D547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23A-8474-4416-B837-21E1B0D3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97D-55CE-44CB-888C-942F3E2F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872-714E-422F-88DA-A7B4E373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0F6B0-F6BA-483D-9A2F-3BDC559E154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70C9D-35D8-4F75-AAE2-24E3CA35044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2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8:03:20Z</dcterms:created>
  <dc:creator>최봉수</dc:creator>
  <dc:description/>
  <dc:language>en-US</dc:language>
  <cp:lastModifiedBy>맛있다 군만두</cp:lastModifiedBy>
  <dcterms:modified xsi:type="dcterms:W3CDTF">2024-09-24T08:01:02Z</dcterms:modified>
  <cp:revision>3</cp:revision>
  <dc:subject/>
  <dc:title>슬라이드 1</dc:title>
</cp:coreProperties>
</file>